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C9023-8495-4F3C-B5D9-52BFDDE83978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34C4-6079-4E86-B7C3-ACC23C90A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3C0B-4C8B-421E-A5B5-2FF5FF1BE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EC2981-FC42-40A3-BE1B-C582F1ABC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1369A7-C4C9-4CF9-8AB8-97ECDE607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8E913E-1FB0-4609-89BF-A5D13AB33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F9A7D4-407C-4978-A6CA-320FEE3C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5466BE-9EB8-4904-9ADB-19BBA7FC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98F272-7C30-4D9C-AE6C-CD382F4C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354FAC-FF1C-4F1C-9949-6CF03B792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D96757-0D77-4A5B-85D3-523747CAA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A137FD-EE3B-4788-802C-CD6B9BE27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746557-BECE-4FB1-95F6-E7F0E41C8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A327-A745-447B-8117-35F96350D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C766AE-C227-4CBD-B3BA-9C3EB4C2D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5715F8-1CE0-46C6-938C-1D212138A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BE2BAF-7CD8-48A8-B9C3-FAFEF2AA8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1D7AAC-5A08-4473-87F3-767268082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80388D-FF0B-4685-A616-C5EFF0E08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00F629-898F-465B-A768-02EE6A43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D40752-19D8-4F13-8303-F73624C4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EF4F0F-864A-4EEC-9189-C06A511D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E0E6AF-A7D6-407F-BD12-542A4C48B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9D4C8E-EFFB-4B8F-B739-CFB19AA5B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F863-6D01-4805-821F-1642FFDED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373011-3650-47DF-A35D-FA21FA57C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3579F1-D2C6-47C3-83DB-EB44C0BF4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9E3C1A-257F-4A62-A694-0DBE78B46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20DA17-17F1-46D6-B4B0-5128026E3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D07347-2C6E-425A-A2D8-7B573F17F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9BADA9-CDDB-46AF-9D0D-984FA169D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26FCEA-7DEF-49F1-8341-DECADB6FF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740ABE-35BB-4B0A-8BAC-F70B90E9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C89E93-848B-4F51-8026-AF8C913D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5412F4-4632-4C64-8884-840D63DA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17088-3A75-4EF5-98C6-4EBFBC976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0037FF-D3E2-4398-ABBC-7DDEDF4E6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3A2028-787C-4C9C-A9AD-AD476C3BC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568F6A-4035-416D-9BEC-9AE41026D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FECC2B-7AA2-40C2-BB59-9B5AEF424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673A19-5978-497D-B681-DEF7063EB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74E5CC-533C-4CC7-BEB7-F0FCDAEEE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59CED0-62BF-47D9-90D6-9624A1399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37840B-C70B-4F2C-A80C-69EB9C198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AF4050-0B6F-4CEB-81DE-D63479747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42C7DC-7D44-4260-BD68-6F0A1C65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039F8-FEA7-495F-81B6-410FB35CC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57D188-DC99-4DED-BF0D-71C8CBFA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A1137B-7B85-4BBF-8A52-9BD8294A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9544DB-7F60-47D7-BE34-47687E7DD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648025-3FF4-4B5C-ABD3-A3C34F01E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6A837A-5A47-474A-9C01-20AA91EDF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EF2D764-CD20-4A7A-B924-CA7AF95A6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CB46004-BA14-413C-9501-437822805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C8E0F45-52CA-42C8-90DE-3B81145A7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8E3FA41-3CC7-413E-9324-AECA3F940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D3B833A-BE1C-4B52-A47F-A01FE9791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C6EEB-6770-4E83-AC2E-72C81A435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310A616-B674-4677-B4A1-9304A1A26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4AF2196-FBC5-4A49-B806-67E18D09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3066526-9C78-440A-A113-663AB427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5A6819D-1BF1-4F61-95C2-A50223C4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DBB06AB-C354-4CFE-B0A3-B2AA5E0D0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4F7102A-C953-40F7-B381-6C740AC4E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E67BD75-7E00-4815-8744-FB5B105EA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64F39-88F4-49B6-8E17-9CDF75266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FE42D-B87A-4F93-BDBE-846DA166E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D7791-FCAB-45D8-BC23-76A4715A0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0B389-874B-4C1C-B82D-55407DFE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6089-09DD-49F3-97BF-FBDEF13E4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2E06F-E8AE-486A-8F2F-763C44469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E2231-5A17-4759-BEB6-3FA3EBE90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8922F-D7C6-47B1-82B3-24537A466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1B60C-B966-40E1-B1BA-007D1B67A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8A6C9-D42C-40FE-AB96-3CB2CA327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5128F-146D-4C0A-959C-F630C1F4C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F3030-CE14-4475-B54B-B3CBFFF26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C0CA1-DE4D-4B61-871D-9F80689D5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DCD05-430A-4FD9-A729-C937F8171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DC6BB-0EB7-4775-9CB5-CD00F4680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1EF3-AE5C-4CFB-BD27-1C56DFBD9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F29DA-7A94-44A8-AC60-6176D128B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8B47C-9219-44FF-8F17-AE073BC9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9BAA7-447E-4EC9-BF27-AA8A5AB2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24304-AECE-49AE-A02D-3DFBB3E8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E7D92-BDAE-44CB-B6D3-B1260B46E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5B7D7-96BF-41E6-A29A-8430CDF41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59696-5361-46CE-97E1-20C854FA5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37D83-3BF1-439A-8831-BF8121CF1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9B454-B41A-49DF-985A-A97F6B51C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14407-DF1F-4805-8C2E-5BEB9F21E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5E0D-D688-460F-9833-C03A71BC0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23FC0-4662-45D7-B3F3-EE7B6BEBC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7E0B3-389F-4E68-8A50-5A0A9DDDC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2ED03-EA0F-4603-897A-2A5EBBF2A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DEB3E-F3D5-450B-A1F2-A9ACC7BC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9571E-553C-4E89-BA36-357F73DF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18AD9-3E01-406C-AAF8-1A00B8C7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D36B6-2246-4B78-95EB-702298FCD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E715D-BB71-4605-BBFC-841417E93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3C954-9753-4C68-96FA-3AABBD40E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8C714-2B93-48E2-AD35-B4D65591A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2967-06FB-4C78-A70E-79F23FD13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BFB61-A6C4-4BF5-B6D5-4046B60CC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15F71-DDC2-4308-AB5E-6C422680A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CA4AB-0B00-4B4B-8996-573727E91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944B9-ED02-464C-A358-584F552B2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AC0BC-84E8-4C1F-A21A-4E3BAB7A4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815D2-5F61-4AC8-BA47-FAD5FA98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85176-66C6-45FB-8A54-B7105C31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BFA0F-5C22-4627-9831-FD746994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FC1DF-6295-418D-9E9D-22EDE2424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54996-568A-4415-A5D0-CC53662D7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A399-BAB4-46E4-A593-BD265DF5D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812E5-7A7C-44FD-95FB-A52A7449F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9873BE-13A9-485D-9AB4-38A72A8A1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B46D9D-41B8-49A6-8B91-487D98C40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987537-1DBD-43CB-B7C0-FBDE6BB9D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7C8008-0739-46FA-A1C2-C4FF52F65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87630F-C3AA-42A5-B7D9-458C90911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3FFAB6-9A17-48F9-BCA2-C0A68F7A8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883636-50EE-4750-9E87-4AF4339C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AF6FDC-AD05-41E7-B5D3-9A43DC18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2D4B65-6C1D-4496-8B32-D68D2891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0585-5932-4370-8B1B-E8114204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492127-5BD0-476F-B526-A786DDB8C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1E431B-8DF7-430A-9209-430367862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B2DF1E-DE2A-4A5E-9F68-8EC875AC2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F70F1-4412-4E8C-932C-0E3CCAC98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5832D6-6676-4975-A863-83CFF080E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C92F87-957B-4748-9829-B902B65C4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6A0CD1-2B64-4764-AF3B-879B92F14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A7395B-BDBB-43FA-A0C5-E94D1BDE6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FC7F0C-32EB-4EAF-9C6A-49E580648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49B15C-1E89-4C7C-A731-A86FAAF5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673A-0B17-4293-B625-66EE4B3E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62BFFF-0D87-4AE2-8B4B-3AC82138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DC63DF-BF83-4377-BE5A-A9BA2540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3E134C-5FF8-4EFF-9DB5-23778F4FB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2B7673-F884-4410-8971-FE17BE248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24C329-D8B8-4156-8A0C-1A4F4C97A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3EBB3A-DD64-454E-AE1D-742F26444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85C688-FFDF-4384-8E4F-CB25F3A1F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2BCE76-7366-4F87-AFD7-532C9F70F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97C5F2-5DB6-48FF-A44B-FCCE4CA39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0A3B38-56EE-45F0-958C-B584BD6FD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B8B1-0857-414C-9EA8-2999AAF1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E5473F-8D64-44B6-BC2D-EC39F6D73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53A812-2086-4FFD-A6E3-62EA8B11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588912-ED52-485D-B0A4-E441FFAC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A97677-878F-4F7C-8EFD-054FB9A8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3DD5D8-37E4-4835-B95E-63F73A616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2D5B78-A1B7-4CAD-9775-7D1F6C1BC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1ACE9F-8BCB-4141-8C7E-F31732CD8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1519A6-5081-4D4A-8DF0-541B8FF2D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F0A7B3-B528-4188-B0D8-04DD58B3C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D5A5B7-476C-4E6A-8FB0-41000F222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B586D-1F88-411A-BB58-2C2BC4D55E7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0AEBC-E616-430D-B529-B90CBD6E360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1D478-2897-425E-A0F6-8A955D2DFBF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06305-0BC3-400C-ADEF-872A1D96F53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679DC-E8A5-4920-83CC-B3B4CF12A81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52679-1CFC-4DE6-AFC6-B2E7FA405E9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9D7E3-F377-4273-8E25-802B0EC1424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2F870-44D9-42DD-972C-92BB2C881C2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DE302-310B-44A2-9348-795F41A48A4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A46CC-8AE5-4CC5-A3CB-D510C423F39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43B4C-D189-4535-9BD7-C10CB10E148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1B3B2-B38B-4E16-B11C-746B98C3C1D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DD2C1-4959-4E89-A380-C67410A67E8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36.png"/><Relationship Id="rId6" Type="http://schemas.openxmlformats.org/officeDocument/2006/relationships/image" Target="../media/image7.png"/><Relationship Id="rId7" Type="http://schemas.openxmlformats.org/officeDocument/2006/relationships/image" Target="../media/image12.png"/><Relationship Id="rId8" Type="http://schemas.openxmlformats.org/officeDocument/2006/relationships/image" Target="../media/image37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7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7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92160"/>
            <a:ext cx="3500640" cy="89532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3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57120" y="2357280"/>
              <a:ext cx="3138120" cy="3357000"/>
              <a:chOff x="357120" y="2357280"/>
              <a:chExt cx="313812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57120" y="2357280"/>
                <a:ext cx="3138120" cy="3357000"/>
                <a:chOff x="357120" y="2357280"/>
                <a:chExt cx="313812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57120" y="2357280"/>
                  <a:ext cx="3138120" cy="3357000"/>
                </a:xfrm>
                <a:custGeom>
                  <a:avLst/>
                  <a:gdLst>
                    <a:gd name="textAreaLeft" fmla="*/ 153000 w 3138120"/>
                    <a:gd name="textAreaRight" fmla="*/ 2985120 w 3138120"/>
                    <a:gd name="textAreaTop" fmla="*/ 153000 h 3357000"/>
                    <a:gd name="textAreaBottom" fmla="*/ 3204000 h 3357000"/>
                  </a:gdLst>
                  <a:ahLst/>
                  <a:rect l="textAreaLeft" t="textAreaTop" r="textAreaRight" b="textAreaBottom"/>
                  <a:pathLst>
                    <a:path w="21600" h="23106">
                      <a:moveTo>
                        <a:pt x="3600" y="0"/>
                      </a:moveTo>
                      <a:arcTo wR="3600" hR="3600" stAng="16200000" swAng="-5400000"/>
                      <a:lnTo>
                        <a:pt x="0" y="19506"/>
                      </a:lnTo>
                      <a:arcTo wR="3600" hR="3600" stAng="10800000" swAng="-5400000"/>
                      <a:lnTo>
                        <a:pt x="18000" y="2310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57120" y="2357280"/>
                  <a:ext cx="58104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29480" y="2441160"/>
                <a:ext cx="2994480" cy="3217680"/>
                <a:chOff x="429480" y="2441160"/>
                <a:chExt cx="299448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29480" y="2441160"/>
                  <a:ext cx="2994480" cy="3217680"/>
                </a:xfrm>
                <a:custGeom>
                  <a:avLst/>
                  <a:gdLst>
                    <a:gd name="textAreaLeft" fmla="*/ 146160 w 2994480"/>
                    <a:gd name="textAreaRight" fmla="*/ 2848320 w 2994480"/>
                    <a:gd name="textAreaTop" fmla="*/ 146160 h 3217680"/>
                    <a:gd name="textAreaBottom" fmla="*/ 3071520 h 3217680"/>
                  </a:gdLst>
                  <a:ahLst/>
                  <a:rect l="textAreaLeft" t="textAreaTop" r="textAreaRight" b="textAreaBottom"/>
                  <a:pathLst>
                    <a:path w="21600" h="23210">
                      <a:moveTo>
                        <a:pt x="3600" y="0"/>
                      </a:moveTo>
                      <a:arcTo wR="3600" hR="3600" stAng="16200000" swAng="-5400000"/>
                      <a:lnTo>
                        <a:pt x="0" y="19610"/>
                      </a:lnTo>
                      <a:arcTo wR="3600" hR="3600" stAng="10800000" swAng="-5400000"/>
                      <a:lnTo>
                        <a:pt x="18000" y="2321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29480" y="2441160"/>
                  <a:ext cx="55512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70960" y="3143160"/>
                <a:ext cx="268668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02120" y="2401560"/>
              <a:ext cx="21790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493200" y="3315960"/>
              <a:ext cx="300708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09040" y="2344680"/>
            <a:ext cx="20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96960" y="3267000"/>
            <a:ext cx="24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최근 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15000" y="418788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C48A5-723C-4FF3-A9A8-C686AB1F5D8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9" name="그룹 56"/>
          <p:cNvGrpSpPr/>
          <p:nvPr/>
        </p:nvGrpSpPr>
        <p:grpSpPr>
          <a:xfrm>
            <a:off x="214200" y="2297160"/>
            <a:ext cx="8820360" cy="3603600"/>
            <a:chOff x="214200" y="2297160"/>
            <a:chExt cx="8820360" cy="3603600"/>
          </a:xfrm>
        </p:grpSpPr>
        <p:sp>
          <p:nvSpPr>
            <p:cNvPr id="1120" name="Text Box 126"/>
            <p:cNvSpPr/>
            <p:nvPr/>
          </p:nvSpPr>
          <p:spPr>
            <a:xfrm>
              <a:off x="5813640" y="2297160"/>
              <a:ext cx="3220920" cy="36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8000"/>
                  </a:solidFill>
                  <a:latin typeface="휴먼모음T"/>
                  <a:ea typeface="휴먼모음T"/>
                </a:rPr>
                <a:t>문항의 표현양식에 따른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항을 문자로 표현한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림이나 도형으로 문항을 구성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작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능을 수행하도록 요구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Text Box 131"/>
            <p:cNvSpPr/>
            <p:nvPr/>
          </p:nvSpPr>
          <p:spPr>
            <a:xfrm>
              <a:off x="214200" y="2334960"/>
              <a:ext cx="3357720" cy="32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336699"/>
                  </a:solidFill>
                  <a:latin typeface="휴먼모음T"/>
                  <a:ea typeface="휴먼모음T"/>
                </a:rPr>
                <a:t>실시방식을 기준으로 한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별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한 명의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를 대상으로 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집단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여러 명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들을 대상으로 동시에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2" name="그룹 56"/>
            <p:cNvGrpSpPr/>
            <p:nvPr/>
          </p:nvGrpSpPr>
          <p:grpSpPr>
            <a:xfrm>
              <a:off x="3110040" y="3204000"/>
              <a:ext cx="2820240" cy="2259000"/>
              <a:chOff x="3110040" y="3204000"/>
              <a:chExt cx="2820240" cy="2259000"/>
            </a:xfrm>
          </p:grpSpPr>
          <p:sp>
            <p:nvSpPr>
              <p:cNvPr id="1123" name="AutoShape 103"/>
              <p:cNvSpPr/>
              <p:nvPr/>
            </p:nvSpPr>
            <p:spPr>
              <a:xfrm flipH="1" rot="4130400">
                <a:off x="3371040" y="346680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9534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AutoShape 97"/>
              <p:cNvSpPr/>
              <p:nvPr/>
            </p:nvSpPr>
            <p:spPr>
              <a:xfrm rot="17399400">
                <a:off x="3953160" y="344808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e"/>
                  </a:gs>
                </a:gsLst>
                <a:lin ang="96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AutoShape 102"/>
              <p:cNvSpPr/>
              <p:nvPr/>
            </p:nvSpPr>
            <p:spPr>
              <a:xfrm flipH="1" rot="9468600">
                <a:off x="3372480" y="3466800"/>
                <a:ext cx="1732320" cy="173304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14868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6" name="슬라이드 번호 개체 틀 1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1C6C6-2783-49D7-8FF5-7237E7934E8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7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28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29" name="직사각형 17"/>
              <p:cNvSpPr/>
              <p:nvPr/>
            </p:nvSpPr>
            <p:spPr>
              <a:xfrm>
                <a:off x="1419120" y="138636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검사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1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32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3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3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6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7" name="그룹 24"/>
          <p:cNvGrpSpPr/>
          <p:nvPr/>
        </p:nvGrpSpPr>
        <p:grpSpPr>
          <a:xfrm>
            <a:off x="142920" y="3225960"/>
            <a:ext cx="5670360" cy="2170080"/>
            <a:chOff x="142920" y="3225960"/>
            <a:chExt cx="5670360" cy="2170080"/>
          </a:xfrm>
        </p:grpSpPr>
        <p:grpSp>
          <p:nvGrpSpPr>
            <p:cNvPr id="1138" name="타원 19"/>
            <p:cNvGrpSpPr/>
            <p:nvPr/>
          </p:nvGrpSpPr>
          <p:grpSpPr>
            <a:xfrm>
              <a:off x="142920" y="3225960"/>
              <a:ext cx="226080" cy="218160"/>
              <a:chOff x="142920" y="3225960"/>
              <a:chExt cx="226080" cy="218160"/>
            </a:xfrm>
          </p:grpSpPr>
          <p:pic>
            <p:nvPicPr>
              <p:cNvPr id="1139" name="타원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142920" y="322596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225000" y="32803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1" name="타원 20"/>
            <p:cNvGrpSpPr/>
            <p:nvPr/>
          </p:nvGrpSpPr>
          <p:grpSpPr>
            <a:xfrm>
              <a:off x="142920" y="4305240"/>
              <a:ext cx="226080" cy="218160"/>
              <a:chOff x="142920" y="4305240"/>
              <a:chExt cx="226080" cy="218160"/>
            </a:xfrm>
          </p:grpSpPr>
          <p:pic>
            <p:nvPicPr>
              <p:cNvPr id="1142" name="타원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142920" y="430524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3" name=""/>
              <p:cNvSpPr/>
              <p:nvPr/>
            </p:nvSpPr>
            <p:spPr>
              <a:xfrm rot="10800000">
                <a:off x="225000" y="43567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4" name="타원 21"/>
            <p:cNvGrpSpPr/>
            <p:nvPr/>
          </p:nvGrpSpPr>
          <p:grpSpPr>
            <a:xfrm>
              <a:off x="5592960" y="3271680"/>
              <a:ext cx="220320" cy="218160"/>
              <a:chOff x="5592960" y="3271680"/>
              <a:chExt cx="220320" cy="218160"/>
            </a:xfrm>
          </p:grpSpPr>
          <p:pic>
            <p:nvPicPr>
              <p:cNvPr id="1145" name="타원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5592960" y="32716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5669640" y="332208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22"/>
            <p:cNvGrpSpPr/>
            <p:nvPr/>
          </p:nvGrpSpPr>
          <p:grpSpPr>
            <a:xfrm>
              <a:off x="5592960" y="4104360"/>
              <a:ext cx="220320" cy="218160"/>
              <a:chOff x="5592960" y="4104360"/>
              <a:chExt cx="220320" cy="218160"/>
            </a:xfrm>
          </p:grpSpPr>
          <p:pic>
            <p:nvPicPr>
              <p:cNvPr id="1148" name="타원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5592960" y="410436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5669640" y="415476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0" name="타원 23"/>
            <p:cNvGrpSpPr/>
            <p:nvPr/>
          </p:nvGrpSpPr>
          <p:grpSpPr>
            <a:xfrm>
              <a:off x="5592960" y="5177880"/>
              <a:ext cx="220320" cy="218160"/>
              <a:chOff x="5592960" y="5177880"/>
              <a:chExt cx="220320" cy="218160"/>
            </a:xfrm>
          </p:grpSpPr>
          <p:pic>
            <p:nvPicPr>
              <p:cNvPr id="1151" name="타원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5592960" y="51778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2" name=""/>
              <p:cNvSpPr/>
              <p:nvPr/>
            </p:nvSpPr>
            <p:spPr>
              <a:xfrm rot="10800000">
                <a:off x="5669640" y="52315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154" name="TextBox 38"/>
          <p:cNvSpPr/>
          <p:nvPr/>
        </p:nvSpPr>
        <p:spPr>
          <a:xfrm>
            <a:off x="-2922840" y="5873760"/>
            <a:ext cx="2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22A4D-D4C6-4DA5-9F38-D623AC9C2D4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6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5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58" name="직사각형 47"/>
              <p:cNvSpPr/>
              <p:nvPr/>
            </p:nvSpPr>
            <p:spPr>
              <a:xfrm>
                <a:off x="1252440" y="138636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직선 연결선 4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0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61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2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6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5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그룹 37"/>
          <p:cNvGrpSpPr/>
          <p:nvPr/>
        </p:nvGrpSpPr>
        <p:grpSpPr>
          <a:xfrm>
            <a:off x="214200" y="1857240"/>
            <a:ext cx="8501040" cy="1143000"/>
            <a:chOff x="214200" y="1857240"/>
            <a:chExt cx="8501040" cy="1143000"/>
          </a:xfrm>
        </p:grpSpPr>
        <p:grpSp>
          <p:nvGrpSpPr>
            <p:cNvPr id="1167" name="그룹 37"/>
            <p:cNvGrpSpPr/>
            <p:nvPr/>
          </p:nvGrpSpPr>
          <p:grpSpPr>
            <a:xfrm>
              <a:off x="214200" y="1857240"/>
              <a:ext cx="8501040" cy="1143000"/>
              <a:chOff x="214200" y="1857240"/>
              <a:chExt cx="8501040" cy="1143000"/>
            </a:xfrm>
          </p:grpSpPr>
          <p:grpSp>
            <p:nvGrpSpPr>
              <p:cNvPr id="1168" name="그룹 91"/>
              <p:cNvGrpSpPr/>
              <p:nvPr/>
            </p:nvGrpSpPr>
            <p:grpSpPr>
              <a:xfrm>
                <a:off x="214200" y="2071440"/>
                <a:ext cx="8501040" cy="928800"/>
                <a:chOff x="214200" y="2071440"/>
                <a:chExt cx="8501040" cy="928800"/>
              </a:xfrm>
            </p:grpSpPr>
            <p:pic>
              <p:nvPicPr>
                <p:cNvPr id="116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14200" y="2071440"/>
                  <a:ext cx="8501040" cy="92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0" name="직사각형 61"/>
                <p:cNvSpPr/>
                <p:nvPr/>
              </p:nvSpPr>
              <p:spPr>
                <a:xfrm>
                  <a:off x="1214280" y="23364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인이 지능검사에서 얻은 점수를 특정 연령집단의 평균과 비교하여 표시한 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1" name="그룹 44"/>
              <p:cNvGrpSpPr/>
              <p:nvPr/>
            </p:nvGrpSpPr>
            <p:grpSpPr>
              <a:xfrm>
                <a:off x="856800" y="1857240"/>
                <a:ext cx="7574040" cy="551160"/>
                <a:chOff x="856800" y="1857240"/>
                <a:chExt cx="7574040" cy="551160"/>
              </a:xfrm>
            </p:grpSpPr>
            <p:grpSp>
              <p:nvGrpSpPr>
                <p:cNvPr id="1172" name="그룹 91"/>
                <p:cNvGrpSpPr/>
                <p:nvPr/>
              </p:nvGrpSpPr>
              <p:grpSpPr>
                <a:xfrm>
                  <a:off x="856800" y="1857240"/>
                  <a:ext cx="2558520" cy="551160"/>
                  <a:chOff x="856800" y="1857240"/>
                  <a:chExt cx="2558520" cy="551160"/>
                </a:xfrm>
              </p:grpSpPr>
              <p:grpSp>
                <p:nvGrpSpPr>
                  <p:cNvPr id="1173" name="그룹 34"/>
                  <p:cNvGrpSpPr/>
                  <p:nvPr/>
                </p:nvGrpSpPr>
                <p:grpSpPr>
                  <a:xfrm>
                    <a:off x="856800" y="1966680"/>
                    <a:ext cx="349200" cy="362160"/>
                    <a:chOff x="856800" y="1966680"/>
                    <a:chExt cx="349200" cy="362160"/>
                  </a:xfrm>
                </p:grpSpPr>
                <p:pic>
                  <p:nvPicPr>
                    <p:cNvPr id="117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5680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75" name="TextBox 36"/>
                    <p:cNvSpPr/>
                    <p:nvPr/>
                  </p:nvSpPr>
                  <p:spPr>
                    <a:xfrm>
                      <a:off x="88488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6" name="직사각형 57"/>
                  <p:cNvSpPr/>
                  <p:nvPr/>
                </p:nvSpPr>
                <p:spPr>
                  <a:xfrm>
                    <a:off x="1368000" y="1857240"/>
                    <a:ext cx="20473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mental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ag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7" name="직선 연결선 55"/>
                <p:cNvSpPr/>
                <p:nvPr/>
              </p:nvSpPr>
              <p:spPr>
                <a:xfrm>
                  <a:off x="4212720" y="2143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8" name="타원 51"/>
            <p:cNvGrpSpPr/>
            <p:nvPr/>
          </p:nvGrpSpPr>
          <p:grpSpPr>
            <a:xfrm>
              <a:off x="993240" y="2499120"/>
              <a:ext cx="225360" cy="237600"/>
              <a:chOff x="993240" y="2499120"/>
              <a:chExt cx="225360" cy="237600"/>
            </a:xfrm>
          </p:grpSpPr>
          <p:pic>
            <p:nvPicPr>
              <p:cNvPr id="1179" name="타원 51" descr=""/>
              <p:cNvPicPr/>
              <p:nvPr/>
            </p:nvPicPr>
            <p:blipFill>
              <a:blip r:embed="rId5"/>
              <a:stretch/>
            </p:blipFill>
            <p:spPr>
              <a:xfrm>
                <a:off x="993240" y="2499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0" name=""/>
              <p:cNvSpPr/>
              <p:nvPr/>
            </p:nvSpPr>
            <p:spPr>
              <a:xfrm rot="10800000">
                <a:off x="1073520" y="2558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1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1182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1183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118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85" name="직사각형 8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검사에서 얻는 점수를 동년배와 상대적으로 비교하여 나타낸 지능지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6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1187" name="그룹 91"/>
                <p:cNvGrpSpPr/>
                <p:nvPr/>
              </p:nvGrpSpPr>
              <p:grpSpPr>
                <a:xfrm>
                  <a:off x="856800" y="5143680"/>
                  <a:ext cx="4905000" cy="551160"/>
                  <a:chOff x="856800" y="5143680"/>
                  <a:chExt cx="4905000" cy="551160"/>
                </a:xfrm>
              </p:grpSpPr>
              <p:grpSp>
                <p:nvGrpSpPr>
                  <p:cNvPr id="1188" name="그룹 34"/>
                  <p:cNvGrpSpPr/>
                  <p:nvPr/>
                </p:nvGrpSpPr>
                <p:grpSpPr>
                  <a:xfrm>
                    <a:off x="856800" y="5253120"/>
                    <a:ext cx="349200" cy="361800"/>
                    <a:chOff x="856800" y="5253120"/>
                    <a:chExt cx="349200" cy="361800"/>
                  </a:xfrm>
                </p:grpSpPr>
                <p:pic>
                  <p:nvPicPr>
                    <p:cNvPr id="118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56800" y="526068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0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1" name="직사각형 84"/>
                  <p:cNvSpPr/>
                  <p:nvPr/>
                </p:nvSpPr>
                <p:spPr>
                  <a:xfrm>
                    <a:off x="1591560" y="5143680"/>
                    <a:ext cx="4170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편차지능지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eviation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intelligence quotient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2" name="직선 연결선 82"/>
                <p:cNvSpPr/>
                <p:nvPr/>
              </p:nvSpPr>
              <p:spPr>
                <a:xfrm>
                  <a:off x="6335280" y="5421240"/>
                  <a:ext cx="2095560" cy="936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3" name="타원 78"/>
            <p:cNvGrpSpPr/>
            <p:nvPr/>
          </p:nvGrpSpPr>
          <p:grpSpPr>
            <a:xfrm>
              <a:off x="993240" y="5815800"/>
              <a:ext cx="225360" cy="231480"/>
              <a:chOff x="993240" y="5815800"/>
              <a:chExt cx="225360" cy="231480"/>
            </a:xfrm>
          </p:grpSpPr>
          <p:pic>
            <p:nvPicPr>
              <p:cNvPr id="1194" name="타원 78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5815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5" name=""/>
              <p:cNvSpPr/>
              <p:nvPr/>
            </p:nvSpPr>
            <p:spPr>
              <a:xfrm rot="10800000">
                <a:off x="1073520" y="5872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6" name="그룹 98"/>
          <p:cNvGrpSpPr/>
          <p:nvPr/>
        </p:nvGrpSpPr>
        <p:grpSpPr>
          <a:xfrm>
            <a:off x="214200" y="3178080"/>
            <a:ext cx="8501040" cy="1859040"/>
            <a:chOff x="214200" y="3178080"/>
            <a:chExt cx="8501040" cy="1859040"/>
          </a:xfrm>
        </p:grpSpPr>
        <p:grpSp>
          <p:nvGrpSpPr>
            <p:cNvPr id="1197" name="그룹 37"/>
            <p:cNvGrpSpPr/>
            <p:nvPr/>
          </p:nvGrpSpPr>
          <p:grpSpPr>
            <a:xfrm>
              <a:off x="214200" y="3178080"/>
              <a:ext cx="8501040" cy="1859040"/>
              <a:chOff x="214200" y="3178080"/>
              <a:chExt cx="8501040" cy="1859040"/>
            </a:xfrm>
          </p:grpSpPr>
          <p:grpSp>
            <p:nvGrpSpPr>
              <p:cNvPr id="1198" name="그룹 37"/>
              <p:cNvGrpSpPr/>
              <p:nvPr/>
            </p:nvGrpSpPr>
            <p:grpSpPr>
              <a:xfrm>
                <a:off x="214200" y="3178080"/>
                <a:ext cx="8501040" cy="1859040"/>
                <a:chOff x="214200" y="3178080"/>
                <a:chExt cx="8501040" cy="1859040"/>
              </a:xfrm>
            </p:grpSpPr>
            <p:grpSp>
              <p:nvGrpSpPr>
                <p:cNvPr id="1199" name="그룹 91"/>
                <p:cNvGrpSpPr/>
                <p:nvPr/>
              </p:nvGrpSpPr>
              <p:grpSpPr>
                <a:xfrm>
                  <a:off x="214200" y="3392280"/>
                  <a:ext cx="8501040" cy="1644840"/>
                  <a:chOff x="214200" y="3392280"/>
                  <a:chExt cx="8501040" cy="1644840"/>
                </a:xfrm>
              </p:grpSpPr>
              <p:pic>
                <p:nvPicPr>
                  <p:cNvPr id="1200" name="Picture 5" descr="233"/>
                  <p:cNvPicPr/>
                  <p:nvPr/>
                </p:nvPicPr>
                <p:blipFill>
                  <a:blip r:embed="rId9"/>
                  <a:srcRect l="0" t="0" r="24313" b="0"/>
                  <a:stretch/>
                </p:blipFill>
                <p:spPr>
                  <a:xfrm>
                    <a:off x="214200" y="3392280"/>
                    <a:ext cx="8501040" cy="1644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1201" name="직사각형 74"/>
                  <p:cNvSpPr/>
                  <p:nvPr/>
                </p:nvSpPr>
                <p:spPr>
                  <a:xfrm>
                    <a:off x="1214280" y="3657240"/>
                    <a:ext cx="750096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은 생활연령의 비로 나타낸 지능지수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2" name="그룹 44"/>
                <p:cNvGrpSpPr/>
                <p:nvPr/>
              </p:nvGrpSpPr>
              <p:grpSpPr>
                <a:xfrm>
                  <a:off x="856800" y="3178080"/>
                  <a:ext cx="7574040" cy="551160"/>
                  <a:chOff x="856800" y="3178080"/>
                  <a:chExt cx="7574040" cy="551160"/>
                </a:xfrm>
              </p:grpSpPr>
              <p:grpSp>
                <p:nvGrpSpPr>
                  <p:cNvPr id="1203" name="그룹 91"/>
                  <p:cNvGrpSpPr/>
                  <p:nvPr/>
                </p:nvGrpSpPr>
                <p:grpSpPr>
                  <a:xfrm>
                    <a:off x="856800" y="3178080"/>
                    <a:ext cx="4433040" cy="551160"/>
                    <a:chOff x="856800" y="3178080"/>
                    <a:chExt cx="4433040" cy="551160"/>
                  </a:xfrm>
                </p:grpSpPr>
                <p:grpSp>
                  <p:nvGrpSpPr>
                    <p:cNvPr id="1204" name="그룹 34"/>
                    <p:cNvGrpSpPr/>
                    <p:nvPr/>
                  </p:nvGrpSpPr>
                  <p:grpSpPr>
                    <a:xfrm>
                      <a:off x="856800" y="3287520"/>
                      <a:ext cx="349200" cy="362520"/>
                      <a:chOff x="856800" y="3287520"/>
                      <a:chExt cx="349200" cy="362520"/>
                    </a:xfrm>
                  </p:grpSpPr>
                  <p:pic>
                    <p:nvPicPr>
                      <p:cNvPr id="1205" name="Picture 177" descr="bull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856800" y="3291480"/>
                        <a:ext cx="349200" cy="35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206" name="TextBox 36"/>
                      <p:cNvSpPr/>
                      <p:nvPr/>
                    </p:nvSpPr>
                    <p:spPr>
                      <a:xfrm>
                        <a:off x="884880" y="328752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07" name="직사각형 70"/>
                    <p:cNvSpPr/>
                    <p:nvPr/>
                  </p:nvSpPr>
                  <p:spPr>
                    <a:xfrm>
                      <a:off x="1555560" y="3178080"/>
                      <a:ext cx="373428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비율지능지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ratio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intelligence quotie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8" name="직선 연결선 68"/>
                  <p:cNvSpPr/>
                  <p:nvPr/>
                </p:nvSpPr>
                <p:spPr>
                  <a:xfrm>
                    <a:off x="5827320" y="3456000"/>
                    <a:ext cx="2603520" cy="936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09" name="타원 64"/>
              <p:cNvGrpSpPr/>
              <p:nvPr/>
            </p:nvGrpSpPr>
            <p:grpSpPr>
              <a:xfrm>
                <a:off x="993240" y="3822120"/>
                <a:ext cx="225360" cy="231480"/>
                <a:chOff x="993240" y="3822120"/>
                <a:chExt cx="225360" cy="231480"/>
              </a:xfrm>
            </p:grpSpPr>
            <p:pic>
              <p:nvPicPr>
                <p:cNvPr id="1210" name="타원 64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993240" y="38221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1" name=""/>
                <p:cNvSpPr/>
                <p:nvPr/>
              </p:nvSpPr>
              <p:spPr>
                <a:xfrm rot="10800000">
                  <a:off x="1073520" y="3880080"/>
                  <a:ext cx="69120" cy="6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2" name="그룹 97"/>
            <p:cNvGrpSpPr/>
            <p:nvPr/>
          </p:nvGrpSpPr>
          <p:grpSpPr>
            <a:xfrm>
              <a:off x="5572080" y="3786120"/>
              <a:ext cx="3000240" cy="1001160"/>
              <a:chOff x="5572080" y="3786120"/>
              <a:chExt cx="3000240" cy="1001160"/>
            </a:xfrm>
          </p:grpSpPr>
          <p:grpSp>
            <p:nvGrpSpPr>
              <p:cNvPr id="1213" name="모서리가 둥근 직사각형 89"/>
              <p:cNvGrpSpPr/>
              <p:nvPr/>
            </p:nvGrpSpPr>
            <p:grpSpPr>
              <a:xfrm>
                <a:off x="5572080" y="3786120"/>
                <a:ext cx="3000240" cy="1001160"/>
                <a:chOff x="5572080" y="3786120"/>
                <a:chExt cx="3000240" cy="1001160"/>
              </a:xfrm>
            </p:grpSpPr>
            <p:pic>
              <p:nvPicPr>
                <p:cNvPr id="1214" name="모서리가 둥근 직사각형 8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572080" y="3786120"/>
                  <a:ext cx="3000240" cy="100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5" name=""/>
                <p:cNvSpPr/>
                <p:nvPr/>
              </p:nvSpPr>
              <p:spPr>
                <a:xfrm>
                  <a:off x="5735520" y="3918240"/>
                  <a:ext cx="2680560" cy="72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6" name="그룹 48"/>
              <p:cNvGrpSpPr/>
              <p:nvPr/>
            </p:nvGrpSpPr>
            <p:grpSpPr>
              <a:xfrm>
                <a:off x="5756400" y="4006800"/>
                <a:ext cx="2638800" cy="654120"/>
                <a:chOff x="5756400" y="4006800"/>
                <a:chExt cx="2638800" cy="654120"/>
              </a:xfrm>
            </p:grpSpPr>
            <p:sp>
              <p:nvSpPr>
                <p:cNvPr id="1217" name="TextBox 41"/>
                <p:cNvSpPr/>
                <p:nvPr/>
              </p:nvSpPr>
              <p:spPr>
                <a:xfrm>
                  <a:off x="5756400" y="4140000"/>
                  <a:ext cx="659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IQ =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TextBox 42"/>
                <p:cNvSpPr/>
                <p:nvPr/>
              </p:nvSpPr>
              <p:spPr>
                <a:xfrm>
                  <a:off x="7603560" y="4140000"/>
                  <a:ext cx="791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x 100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9" name="그룹 47"/>
                <p:cNvGrpSpPr/>
                <p:nvPr/>
              </p:nvGrpSpPr>
              <p:grpSpPr>
                <a:xfrm>
                  <a:off x="6283800" y="4006800"/>
                  <a:ext cx="1385640" cy="654120"/>
                  <a:chOff x="6283800" y="4006800"/>
                  <a:chExt cx="1385640" cy="654120"/>
                </a:xfrm>
              </p:grpSpPr>
              <p:sp>
                <p:nvSpPr>
                  <p:cNvPr id="1220" name="TextBox 43"/>
                  <p:cNvSpPr/>
                  <p:nvPr/>
                </p:nvSpPr>
                <p:spPr>
                  <a:xfrm>
                    <a:off x="6350040" y="43236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C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생활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TextBox 44"/>
                  <p:cNvSpPr/>
                  <p:nvPr/>
                </p:nvSpPr>
                <p:spPr>
                  <a:xfrm>
                    <a:off x="6350040" y="40068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M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직선 연결선 46"/>
                  <p:cNvSpPr/>
                  <p:nvPr/>
                </p:nvSpPr>
                <p:spPr>
                  <a:xfrm flipH="1" flipV="1">
                    <a:off x="6283800" y="4286520"/>
                    <a:ext cx="126324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223" name="타원 63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1224" name="타원 63" descr=""/>
            <p:cNvPicPr/>
            <p:nvPr/>
          </p:nvPicPr>
          <p:blipFill>
            <a:blip r:embed="rId13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6" name="직사각형 65"/>
          <p:cNvSpPr/>
          <p:nvPr/>
        </p:nvSpPr>
        <p:spPr>
          <a:xfrm>
            <a:off x="1214280" y="603396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점수가 어느 위치에 해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28" name="슬라이드 번호 개체 틀 2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D715F-EEBA-49E1-99AA-F65B9182A8F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그룹 91"/>
          <p:cNvGrpSpPr/>
          <p:nvPr/>
        </p:nvGrpSpPr>
        <p:grpSpPr>
          <a:xfrm>
            <a:off x="285840" y="1785960"/>
            <a:ext cx="8501040" cy="4071960"/>
            <a:chOff x="285840" y="1785960"/>
            <a:chExt cx="8501040" cy="4071960"/>
          </a:xfrm>
        </p:grpSpPr>
        <p:pic>
          <p:nvPicPr>
            <p:cNvPr id="1230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1785960"/>
              <a:ext cx="8501040" cy="4071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31" name="직사각형 32"/>
            <p:cNvSpPr/>
            <p:nvPr/>
          </p:nvSpPr>
          <p:spPr>
            <a:xfrm>
              <a:off x="1285920" y="245592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그룹 43"/>
          <p:cNvGrpSpPr/>
          <p:nvPr/>
        </p:nvGrpSpPr>
        <p:grpSpPr>
          <a:xfrm>
            <a:off x="928800" y="2222640"/>
            <a:ext cx="2973240" cy="551160"/>
            <a:chOff x="928800" y="2222640"/>
            <a:chExt cx="2973240" cy="551160"/>
          </a:xfrm>
        </p:grpSpPr>
        <p:grpSp>
          <p:nvGrpSpPr>
            <p:cNvPr id="1233" name="그룹 34"/>
            <p:cNvGrpSpPr/>
            <p:nvPr/>
          </p:nvGrpSpPr>
          <p:grpSpPr>
            <a:xfrm>
              <a:off x="928800" y="2319480"/>
              <a:ext cx="349200" cy="374760"/>
              <a:chOff x="928800" y="2319480"/>
              <a:chExt cx="349200" cy="374760"/>
            </a:xfrm>
          </p:grpSpPr>
          <p:pic>
            <p:nvPicPr>
              <p:cNvPr id="1234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928800" y="2340360"/>
                <a:ext cx="349200" cy="35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5" name="TextBox 36"/>
              <p:cNvSpPr/>
              <p:nvPr/>
            </p:nvSpPr>
            <p:spPr>
              <a:xfrm>
                <a:off x="956160" y="2319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6" name="직사각형 28"/>
            <p:cNvSpPr/>
            <p:nvPr/>
          </p:nvSpPr>
          <p:spPr>
            <a:xfrm>
              <a:off x="1784160" y="22226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는 지능과 다르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7" name="Picture 33" descr="C:\Documents and Settings\신형수\Local Settings\Temporary Internet Files\Content.IE5\WCQ5N9GP\MCj03200320000[1].wmf"/>
          <p:cNvPicPr/>
          <p:nvPr/>
        </p:nvPicPr>
        <p:blipFill>
          <a:blip r:embed="rId4"/>
          <a:stretch/>
        </p:blipFill>
        <p:spPr>
          <a:xfrm>
            <a:off x="7924680" y="4992840"/>
            <a:ext cx="1060560" cy="1126800"/>
          </a:xfrm>
          <a:prstGeom prst="rect">
            <a:avLst/>
          </a:prstGeom>
          <a:ln w="0">
            <a:noFill/>
          </a:ln>
        </p:spPr>
      </p:pic>
      <p:grpSp>
        <p:nvGrpSpPr>
          <p:cNvPr id="1238" name="그룹 44"/>
          <p:cNvGrpSpPr/>
          <p:nvPr/>
        </p:nvGrpSpPr>
        <p:grpSpPr>
          <a:xfrm>
            <a:off x="928800" y="3083040"/>
            <a:ext cx="4079880" cy="551160"/>
            <a:chOff x="928800" y="3083040"/>
            <a:chExt cx="4079880" cy="551160"/>
          </a:xfrm>
        </p:grpSpPr>
        <p:grpSp>
          <p:nvGrpSpPr>
            <p:cNvPr id="1239" name="그룹 34"/>
            <p:cNvGrpSpPr/>
            <p:nvPr/>
          </p:nvGrpSpPr>
          <p:grpSpPr>
            <a:xfrm>
              <a:off x="928800" y="3179880"/>
              <a:ext cx="349200" cy="374760"/>
              <a:chOff x="928800" y="3179880"/>
              <a:chExt cx="349200" cy="374760"/>
            </a:xfrm>
          </p:grpSpPr>
          <p:pic>
            <p:nvPicPr>
              <p:cNvPr id="1240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928800" y="32000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TextBox 36"/>
              <p:cNvSpPr/>
              <p:nvPr/>
            </p:nvSpPr>
            <p:spPr>
              <a:xfrm>
                <a:off x="956160" y="3179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2" name="직사각형 46"/>
            <p:cNvSpPr/>
            <p:nvPr/>
          </p:nvSpPr>
          <p:spPr>
            <a:xfrm>
              <a:off x="2063520" y="3083040"/>
              <a:ext cx="2945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가 시간경과에 따라 변화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그룹 49"/>
          <p:cNvGrpSpPr/>
          <p:nvPr/>
        </p:nvGrpSpPr>
        <p:grpSpPr>
          <a:xfrm>
            <a:off x="928800" y="3943440"/>
            <a:ext cx="5065560" cy="551160"/>
            <a:chOff x="928800" y="3943440"/>
            <a:chExt cx="5065560" cy="551160"/>
          </a:xfrm>
        </p:grpSpPr>
        <p:grpSp>
          <p:nvGrpSpPr>
            <p:cNvPr id="1244" name="그룹 34"/>
            <p:cNvGrpSpPr/>
            <p:nvPr/>
          </p:nvGrpSpPr>
          <p:grpSpPr>
            <a:xfrm>
              <a:off x="928800" y="4040280"/>
              <a:ext cx="349200" cy="374760"/>
              <a:chOff x="928800" y="4040280"/>
              <a:chExt cx="349200" cy="374760"/>
            </a:xfrm>
          </p:grpSpPr>
          <p:pic>
            <p:nvPicPr>
              <p:cNvPr id="1245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928800" y="4059720"/>
                <a:ext cx="349200" cy="35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TextBox 36"/>
              <p:cNvSpPr/>
              <p:nvPr/>
            </p:nvSpPr>
            <p:spPr>
              <a:xfrm>
                <a:off x="956160" y="4040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7" name="직사각형 51"/>
            <p:cNvSpPr/>
            <p:nvPr/>
          </p:nvSpPr>
          <p:spPr>
            <a:xfrm>
              <a:off x="2308320" y="3943440"/>
              <a:ext cx="36860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가 중요한 능력을 모두 측정하지 못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8" name="그룹 54"/>
          <p:cNvGrpSpPr/>
          <p:nvPr/>
        </p:nvGrpSpPr>
        <p:grpSpPr>
          <a:xfrm>
            <a:off x="928800" y="4803840"/>
            <a:ext cx="2973240" cy="551160"/>
            <a:chOff x="928800" y="4803840"/>
            <a:chExt cx="2973240" cy="551160"/>
          </a:xfrm>
        </p:grpSpPr>
        <p:grpSp>
          <p:nvGrpSpPr>
            <p:cNvPr id="1249" name="그룹 34"/>
            <p:cNvGrpSpPr/>
            <p:nvPr/>
          </p:nvGrpSpPr>
          <p:grpSpPr>
            <a:xfrm>
              <a:off x="928800" y="4900680"/>
              <a:ext cx="349200" cy="374760"/>
              <a:chOff x="928800" y="4900680"/>
              <a:chExt cx="349200" cy="374760"/>
            </a:xfrm>
          </p:grpSpPr>
          <p:pic>
            <p:nvPicPr>
              <p:cNvPr id="125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928800" y="4919040"/>
                <a:ext cx="349200" cy="35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1" name="TextBox 36"/>
              <p:cNvSpPr/>
              <p:nvPr/>
            </p:nvSpPr>
            <p:spPr>
              <a:xfrm>
                <a:off x="956160" y="49006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2" name="직사각형 56"/>
            <p:cNvSpPr/>
            <p:nvPr/>
          </p:nvSpPr>
          <p:spPr>
            <a:xfrm>
              <a:off x="1784160" y="48038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는 공정하지 않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54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55" name="직사각형 66"/>
              <p:cNvSpPr/>
              <p:nvPr/>
            </p:nvSpPr>
            <p:spPr>
              <a:xfrm>
                <a:off x="1536120" y="138636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에 대한 오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직선 연결선 67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5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60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2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6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F6A7B-5E39-434E-9910-3BD13C5B6D3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6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67" name="직사각형 12"/>
              <p:cNvSpPr/>
              <p:nvPr/>
            </p:nvSpPr>
            <p:spPr>
              <a:xfrm>
                <a:off x="1653120" y="1386360"/>
                <a:ext cx="205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 해석 시 유의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직선 연결선 1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7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그룹 39"/>
          <p:cNvGrpSpPr/>
          <p:nvPr/>
        </p:nvGrpSpPr>
        <p:grpSpPr>
          <a:xfrm>
            <a:off x="642960" y="2000160"/>
            <a:ext cx="8728200" cy="4000680"/>
            <a:chOff x="642960" y="2000160"/>
            <a:chExt cx="8728200" cy="4000680"/>
          </a:xfrm>
        </p:grpSpPr>
        <p:grpSp>
          <p:nvGrpSpPr>
            <p:cNvPr id="1276" name="그룹 123"/>
            <p:cNvGrpSpPr/>
            <p:nvPr/>
          </p:nvGrpSpPr>
          <p:grpSpPr>
            <a:xfrm>
              <a:off x="642960" y="2000160"/>
              <a:ext cx="8728200" cy="4000680"/>
              <a:chOff x="642960" y="2000160"/>
              <a:chExt cx="8728200" cy="4000680"/>
            </a:xfrm>
          </p:grpSpPr>
          <p:pic>
            <p:nvPicPr>
              <p:cNvPr id="1277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00160"/>
                <a:ext cx="80726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78" name="직사각형 19"/>
              <p:cNvSpPr/>
              <p:nvPr/>
            </p:nvSpPr>
            <p:spPr>
              <a:xfrm>
                <a:off x="869760" y="2071440"/>
                <a:ext cx="850140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는 상대적 지적 수준을 나타낸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의 지적 능력을 나타내는 지표는 매우 다양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동일하더라도 하위요인은 다를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가 높다고 해서 학업성적이 반드시 높은 것은 아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만을 기준으로 하여 중요한 의사결정을 내리지 말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9" name="타원 20"/>
              <p:cNvGrpSpPr/>
              <p:nvPr/>
            </p:nvGrpSpPr>
            <p:grpSpPr>
              <a:xfrm>
                <a:off x="908280" y="2432160"/>
                <a:ext cx="225360" cy="231480"/>
                <a:chOff x="908280" y="2432160"/>
                <a:chExt cx="225360" cy="231480"/>
              </a:xfrm>
            </p:grpSpPr>
            <p:pic>
              <p:nvPicPr>
                <p:cNvPr id="1280" name="타원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4321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1" name=""/>
                <p:cNvSpPr/>
                <p:nvPr/>
              </p:nvSpPr>
              <p:spPr>
                <a:xfrm rot="10800000">
                  <a:off x="987480" y="24876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2" name="타원 16"/>
            <p:cNvGrpSpPr/>
            <p:nvPr/>
          </p:nvGrpSpPr>
          <p:grpSpPr>
            <a:xfrm>
              <a:off x="908280" y="3145320"/>
              <a:ext cx="225360" cy="231480"/>
              <a:chOff x="908280" y="3145320"/>
              <a:chExt cx="225360" cy="231480"/>
            </a:xfrm>
          </p:grpSpPr>
          <p:pic>
            <p:nvPicPr>
              <p:cNvPr id="1283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4" name=""/>
              <p:cNvSpPr/>
              <p:nvPr/>
            </p:nvSpPr>
            <p:spPr>
              <a:xfrm rot="10800000">
                <a:off x="987480" y="320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5" name="타원 17"/>
            <p:cNvGrpSpPr/>
            <p:nvPr/>
          </p:nvGrpSpPr>
          <p:grpSpPr>
            <a:xfrm>
              <a:off x="908280" y="5218200"/>
              <a:ext cx="225360" cy="231480"/>
              <a:chOff x="908280" y="5218200"/>
              <a:chExt cx="225360" cy="231480"/>
            </a:xfrm>
          </p:grpSpPr>
          <p:pic>
            <p:nvPicPr>
              <p:cNvPr id="1286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5218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 rot="10800000">
                <a:off x="987480" y="527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타원 21"/>
            <p:cNvGrpSpPr/>
            <p:nvPr/>
          </p:nvGrpSpPr>
          <p:grpSpPr>
            <a:xfrm>
              <a:off x="908280" y="3816000"/>
              <a:ext cx="225360" cy="231480"/>
              <a:chOff x="908280" y="3816000"/>
              <a:chExt cx="225360" cy="231480"/>
            </a:xfrm>
          </p:grpSpPr>
          <p:pic>
            <p:nvPicPr>
              <p:cNvPr id="1289" name="타원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90828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1" name="타원 22"/>
            <p:cNvGrpSpPr/>
            <p:nvPr/>
          </p:nvGrpSpPr>
          <p:grpSpPr>
            <a:xfrm>
              <a:off x="908280" y="4529520"/>
              <a:ext cx="225360" cy="231480"/>
              <a:chOff x="908280" y="4529520"/>
              <a:chExt cx="225360" cy="231480"/>
            </a:xfrm>
          </p:grpSpPr>
          <p:pic>
            <p:nvPicPr>
              <p:cNvPr id="1292" name="타원 22" descr=""/>
              <p:cNvPicPr/>
              <p:nvPr/>
            </p:nvPicPr>
            <p:blipFill>
              <a:blip r:embed="rId8"/>
              <a:stretch/>
            </p:blipFill>
            <p:spPr>
              <a:xfrm>
                <a:off x="908280" y="4529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"/>
              <p:cNvSpPr/>
              <p:nvPr/>
            </p:nvSpPr>
            <p:spPr>
              <a:xfrm rot="10800000">
                <a:off x="987480" y="458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94" name="Picture 67" descr="C:\Users\ET-27\AppData\Local\Microsoft\Windows\Temporary Internet Files\Content.IE5\EK0NU43Q\MPj04386780000[1].jpg"/>
          <p:cNvPicPr/>
          <p:nvPr/>
        </p:nvPicPr>
        <p:blipFill>
          <a:blip r:embed="rId9"/>
          <a:stretch/>
        </p:blipFill>
        <p:spPr>
          <a:xfrm>
            <a:off x="8064360" y="5499000"/>
            <a:ext cx="9399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784" name="슬라이드 번호 개체 틀 38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5287C-62D8-4970-B75A-F2905FC90D7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그룹 35"/>
          <p:cNvGrpSpPr/>
          <p:nvPr/>
        </p:nvGrpSpPr>
        <p:grpSpPr>
          <a:xfrm>
            <a:off x="642960" y="1143000"/>
            <a:ext cx="8429760" cy="455760"/>
            <a:chOff x="642960" y="1143000"/>
            <a:chExt cx="8429760" cy="455760"/>
          </a:xfrm>
        </p:grpSpPr>
        <p:grpSp>
          <p:nvGrpSpPr>
            <p:cNvPr id="786" name="그룹 48"/>
            <p:cNvGrpSpPr/>
            <p:nvPr/>
          </p:nvGrpSpPr>
          <p:grpSpPr>
            <a:xfrm>
              <a:off x="642960" y="1197360"/>
              <a:ext cx="8429760" cy="401400"/>
              <a:chOff x="642960" y="1197360"/>
              <a:chExt cx="8429760" cy="401400"/>
            </a:xfrm>
          </p:grpSpPr>
          <p:sp>
            <p:nvSpPr>
              <p:cNvPr id="787" name="직사각형 13"/>
              <p:cNvSpPr/>
              <p:nvPr/>
            </p:nvSpPr>
            <p:spPr>
              <a:xfrm>
                <a:off x="1488600" y="1197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측정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직선 연결선 18"/>
              <p:cNvSpPr/>
              <p:nvPr/>
            </p:nvSpPr>
            <p:spPr>
              <a:xfrm>
                <a:off x="642960" y="159732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그룹 49"/>
            <p:cNvGrpSpPr/>
            <p:nvPr/>
          </p:nvGrpSpPr>
          <p:grpSpPr>
            <a:xfrm>
              <a:off x="671400" y="1206360"/>
              <a:ext cx="328320" cy="319320"/>
              <a:chOff x="671400" y="1206360"/>
              <a:chExt cx="328320" cy="319320"/>
            </a:xfrm>
          </p:grpSpPr>
          <p:sp>
            <p:nvSpPr>
              <p:cNvPr id="790" name="AutoShape 4"/>
              <p:cNvSpPr/>
              <p:nvPr/>
            </p:nvSpPr>
            <p:spPr>
              <a:xfrm>
                <a:off x="671400" y="120636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" name="Freeform 5"/>
              <p:cNvGrpSpPr/>
              <p:nvPr/>
            </p:nvGrpSpPr>
            <p:grpSpPr>
              <a:xfrm>
                <a:off x="688680" y="1218960"/>
                <a:ext cx="170640" cy="176760"/>
                <a:chOff x="688680" y="1218960"/>
                <a:chExt cx="170640" cy="176760"/>
              </a:xfrm>
            </p:grpSpPr>
            <p:pic>
              <p:nvPicPr>
                <p:cNvPr id="7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896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3" name=""/>
                <p:cNvSpPr/>
                <p:nvPr/>
              </p:nvSpPr>
              <p:spPr>
                <a:xfrm>
                  <a:off x="691920" y="122724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4" name="TextBox 88"/>
            <p:cNvSpPr/>
            <p:nvPr/>
          </p:nvSpPr>
          <p:spPr>
            <a:xfrm>
              <a:off x="65808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그룹 43"/>
          <p:cNvGrpSpPr/>
          <p:nvPr/>
        </p:nvGrpSpPr>
        <p:grpSpPr>
          <a:xfrm>
            <a:off x="571680" y="1785960"/>
            <a:ext cx="8072280" cy="1058760"/>
            <a:chOff x="571680" y="1785960"/>
            <a:chExt cx="8072280" cy="1058760"/>
          </a:xfrm>
        </p:grpSpPr>
        <p:pic>
          <p:nvPicPr>
            <p:cNvPr id="79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785960"/>
              <a:ext cx="8072280" cy="10587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7" name="타원 49"/>
            <p:cNvGrpSpPr/>
            <p:nvPr/>
          </p:nvGrpSpPr>
          <p:grpSpPr>
            <a:xfrm>
              <a:off x="859680" y="2103120"/>
              <a:ext cx="225360" cy="231480"/>
              <a:chOff x="859680" y="2103120"/>
              <a:chExt cx="225360" cy="231480"/>
            </a:xfrm>
          </p:grpSpPr>
          <p:pic>
            <p:nvPicPr>
              <p:cNvPr id="798" name="타원 49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03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9" name=""/>
              <p:cNvSpPr/>
              <p:nvPr/>
            </p:nvSpPr>
            <p:spPr>
              <a:xfrm rot="10800000">
                <a:off x="943200" y="2157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" name="직사각형 50"/>
            <p:cNvSpPr/>
            <p:nvPr/>
          </p:nvSpPr>
          <p:spPr>
            <a:xfrm>
              <a:off x="903240" y="18316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을 측정하여 지능지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IQ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로 나타내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를 비교하여 개인차를 진단하는 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력하는 접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그룹 37"/>
          <p:cNvGrpSpPr/>
          <p:nvPr/>
        </p:nvGrpSpPr>
        <p:grpSpPr>
          <a:xfrm>
            <a:off x="214200" y="3000240"/>
            <a:ext cx="8501040" cy="2000520"/>
            <a:chOff x="214200" y="3000240"/>
            <a:chExt cx="8501040" cy="2000520"/>
          </a:xfrm>
        </p:grpSpPr>
        <p:grpSp>
          <p:nvGrpSpPr>
            <p:cNvPr id="802" name="그룹 37"/>
            <p:cNvGrpSpPr/>
            <p:nvPr/>
          </p:nvGrpSpPr>
          <p:grpSpPr>
            <a:xfrm>
              <a:off x="214200" y="3000240"/>
              <a:ext cx="8501040" cy="2000520"/>
              <a:chOff x="214200" y="3000240"/>
              <a:chExt cx="8501040" cy="2000520"/>
            </a:xfrm>
          </p:grpSpPr>
          <p:grpSp>
            <p:nvGrpSpPr>
              <p:cNvPr id="803" name="그룹 91"/>
              <p:cNvGrpSpPr/>
              <p:nvPr/>
            </p:nvGrpSpPr>
            <p:grpSpPr>
              <a:xfrm>
                <a:off x="214200" y="3214440"/>
                <a:ext cx="8501040" cy="1786320"/>
                <a:chOff x="214200" y="3214440"/>
                <a:chExt cx="8501040" cy="1786320"/>
              </a:xfrm>
            </p:grpSpPr>
            <p:pic>
              <p:nvPicPr>
                <p:cNvPr id="8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14200" y="3214440"/>
                  <a:ext cx="8501040" cy="17863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5" name="직사각형 64"/>
                <p:cNvSpPr/>
                <p:nvPr/>
              </p:nvSpPr>
              <p:spPr>
                <a:xfrm>
                  <a:off x="1214280" y="34794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능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s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정과제의 해결에만 적용되는 요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일반요인으로 구성되는 단일능력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6" name="그룹 44"/>
              <p:cNvGrpSpPr/>
              <p:nvPr/>
            </p:nvGrpSpPr>
            <p:grpSpPr>
              <a:xfrm>
                <a:off x="856800" y="3000240"/>
                <a:ext cx="7574040" cy="551160"/>
                <a:chOff x="856800" y="3000240"/>
                <a:chExt cx="7574040" cy="551160"/>
              </a:xfrm>
            </p:grpSpPr>
            <p:grpSp>
              <p:nvGrpSpPr>
                <p:cNvPr id="807" name="그룹 91"/>
                <p:cNvGrpSpPr/>
                <p:nvPr/>
              </p:nvGrpSpPr>
              <p:grpSpPr>
                <a:xfrm>
                  <a:off x="856800" y="3000240"/>
                  <a:ext cx="2524680" cy="551160"/>
                  <a:chOff x="856800" y="3000240"/>
                  <a:chExt cx="2524680" cy="551160"/>
                </a:xfrm>
              </p:grpSpPr>
              <p:grpSp>
                <p:nvGrpSpPr>
                  <p:cNvPr id="808" name="그룹 34"/>
                  <p:cNvGrpSpPr/>
                  <p:nvPr/>
                </p:nvGrpSpPr>
                <p:grpSpPr>
                  <a:xfrm>
                    <a:off x="856800" y="3109680"/>
                    <a:ext cx="349200" cy="362160"/>
                    <a:chOff x="856800" y="3109680"/>
                    <a:chExt cx="349200" cy="362160"/>
                  </a:xfrm>
                </p:grpSpPr>
                <p:pic>
                  <p:nvPicPr>
                    <p:cNvPr id="8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56800" y="3114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10" name="TextBox 36"/>
                    <p:cNvSpPr/>
                    <p:nvPr/>
                  </p:nvSpPr>
                  <p:spPr>
                    <a:xfrm>
                      <a:off x="884880" y="3109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1" name="직사각형 60"/>
                  <p:cNvSpPr/>
                  <p:nvPr/>
                </p:nvSpPr>
                <p:spPr>
                  <a:xfrm>
                    <a:off x="1347840" y="3000240"/>
                    <a:ext cx="2033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이요인설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rearma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2" name="직선 연결선 58"/>
                <p:cNvSpPr/>
                <p:nvPr/>
              </p:nvSpPr>
              <p:spPr>
                <a:xfrm>
                  <a:off x="4212720" y="3286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3" name="타원 53"/>
            <p:cNvGrpSpPr/>
            <p:nvPr/>
          </p:nvGrpSpPr>
          <p:grpSpPr>
            <a:xfrm>
              <a:off x="993240" y="3645360"/>
              <a:ext cx="225360" cy="231480"/>
              <a:chOff x="993240" y="3645360"/>
              <a:chExt cx="225360" cy="231480"/>
            </a:xfrm>
          </p:grpSpPr>
          <p:pic>
            <p:nvPicPr>
              <p:cNvPr id="814" name="타원 53" descr=""/>
              <p:cNvPicPr/>
              <p:nvPr/>
            </p:nvPicPr>
            <p:blipFill>
              <a:blip r:embed="rId7"/>
              <a:stretch/>
            </p:blipFill>
            <p:spPr>
              <a:xfrm>
                <a:off x="993240" y="3645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5" name=""/>
              <p:cNvSpPr/>
              <p:nvPr/>
            </p:nvSpPr>
            <p:spPr>
              <a:xfrm rot="10800000">
                <a:off x="1073520" y="3702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타원 54"/>
            <p:cNvGrpSpPr/>
            <p:nvPr/>
          </p:nvGrpSpPr>
          <p:grpSpPr>
            <a:xfrm>
              <a:off x="993240" y="4645440"/>
              <a:ext cx="225360" cy="231480"/>
              <a:chOff x="993240" y="4645440"/>
              <a:chExt cx="225360" cy="231480"/>
            </a:xfrm>
          </p:grpSpPr>
          <p:pic>
            <p:nvPicPr>
              <p:cNvPr id="817" name="타원 54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4645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"/>
              <p:cNvSpPr/>
              <p:nvPr/>
            </p:nvSpPr>
            <p:spPr>
              <a:xfrm rot="10800000">
                <a:off x="1073520" y="4702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9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820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821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822" name="Picture 5" descr="233"/>
                <p:cNvPicPr/>
                <p:nvPr/>
              </p:nvPicPr>
              <p:blipFill>
                <a:blip r:embed="rId9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23" name="직사각형 7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상호독립적인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7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기초정신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825" name="그룹 91"/>
                <p:cNvGrpSpPr/>
                <p:nvPr/>
              </p:nvGrpSpPr>
              <p:grpSpPr>
                <a:xfrm>
                  <a:off x="856800" y="5143680"/>
                  <a:ext cx="2838600" cy="551160"/>
                  <a:chOff x="856800" y="5143680"/>
                  <a:chExt cx="2838600" cy="551160"/>
                </a:xfrm>
              </p:grpSpPr>
              <p:grpSp>
                <p:nvGrpSpPr>
                  <p:cNvPr id="826" name="그룹 34"/>
                  <p:cNvGrpSpPr/>
                  <p:nvPr/>
                </p:nvGrpSpPr>
                <p:grpSpPr>
                  <a:xfrm>
                    <a:off x="856800" y="5253120"/>
                    <a:ext cx="349200" cy="362520"/>
                    <a:chOff x="856800" y="5253120"/>
                    <a:chExt cx="349200" cy="362520"/>
                  </a:xfrm>
                </p:grpSpPr>
                <p:pic>
                  <p:nvPicPr>
                    <p:cNvPr id="827" name="Picture 177" descr="bull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56800" y="5260680"/>
                      <a:ext cx="349200" cy="35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8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9" name="직사각형 74"/>
                  <p:cNvSpPr/>
                  <p:nvPr/>
                </p:nvSpPr>
                <p:spPr>
                  <a:xfrm>
                    <a:off x="1439280" y="5143680"/>
                    <a:ext cx="2256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기초정신능력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Thurston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선 연결선 72"/>
                <p:cNvSpPr/>
                <p:nvPr/>
              </p:nvSpPr>
              <p:spPr>
                <a:xfrm>
                  <a:off x="4212720" y="5429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1" name="타원 67"/>
            <p:cNvGrpSpPr/>
            <p:nvPr/>
          </p:nvGrpSpPr>
          <p:grpSpPr>
            <a:xfrm>
              <a:off x="993240" y="5791320"/>
              <a:ext cx="225360" cy="231480"/>
              <a:chOff x="993240" y="5791320"/>
              <a:chExt cx="225360" cy="231480"/>
            </a:xfrm>
          </p:grpSpPr>
          <p:pic>
            <p:nvPicPr>
              <p:cNvPr id="832" name="타원 67" descr=""/>
              <p:cNvPicPr/>
              <p:nvPr/>
            </p:nvPicPr>
            <p:blipFill>
              <a:blip r:embed="rId11"/>
              <a:stretch/>
            </p:blipFill>
            <p:spPr>
              <a:xfrm>
                <a:off x="993240" y="5791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"/>
              <p:cNvSpPr/>
              <p:nvPr/>
            </p:nvSpPr>
            <p:spPr>
              <a:xfrm rot="10800000">
                <a:off x="1073520" y="58456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4" name="타원 45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835" name="타원 45" descr=""/>
            <p:cNvPicPr/>
            <p:nvPr/>
          </p:nvPicPr>
          <p:blipFill>
            <a:blip r:embed="rId12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직사각형 46"/>
          <p:cNvSpPr/>
          <p:nvPr/>
        </p:nvSpPr>
        <p:spPr>
          <a:xfrm>
            <a:off x="1214280" y="603252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이해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유창성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리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억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간지각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각속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리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39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A1484-6A7E-4E49-9A07-AC59BC4E22A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그룹 37"/>
          <p:cNvGrpSpPr/>
          <p:nvPr/>
        </p:nvGrpSpPr>
        <p:grpSpPr>
          <a:xfrm>
            <a:off x="214200" y="1714680"/>
            <a:ext cx="8501040" cy="4251240"/>
            <a:chOff x="214200" y="1714680"/>
            <a:chExt cx="8501040" cy="4251240"/>
          </a:xfrm>
        </p:grpSpPr>
        <p:grpSp>
          <p:nvGrpSpPr>
            <p:cNvPr id="841" name="그룹 37"/>
            <p:cNvGrpSpPr/>
            <p:nvPr/>
          </p:nvGrpSpPr>
          <p:grpSpPr>
            <a:xfrm>
              <a:off x="214200" y="1714680"/>
              <a:ext cx="8501040" cy="4251240"/>
              <a:chOff x="214200" y="1714680"/>
              <a:chExt cx="8501040" cy="425124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14200" y="1928880"/>
                <a:ext cx="8501040" cy="4037040"/>
                <a:chOff x="214200" y="1928880"/>
                <a:chExt cx="8501040" cy="403704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928880"/>
                  <a:ext cx="8501040" cy="40370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28"/>
                <p:cNvSpPr/>
                <p:nvPr/>
              </p:nvSpPr>
              <p:spPr>
                <a:xfrm>
                  <a:off x="1214280" y="2193840"/>
                  <a:ext cx="7500960" cy="21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내용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조작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6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산출차원을 조합하여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만들어지는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150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본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그룹 44"/>
              <p:cNvGrpSpPr/>
              <p:nvPr/>
            </p:nvGrpSpPr>
            <p:grpSpPr>
              <a:xfrm>
                <a:off x="856800" y="1714680"/>
                <a:ext cx="7574040" cy="551160"/>
                <a:chOff x="856800" y="1714680"/>
                <a:chExt cx="7574040" cy="551160"/>
              </a:xfrm>
            </p:grpSpPr>
            <p:grpSp>
              <p:nvGrpSpPr>
                <p:cNvPr id="846" name="그룹 91"/>
                <p:cNvGrpSpPr/>
                <p:nvPr/>
              </p:nvGrpSpPr>
              <p:grpSpPr>
                <a:xfrm>
                  <a:off x="856800" y="1714680"/>
                  <a:ext cx="2628360" cy="551160"/>
                  <a:chOff x="856800" y="1714680"/>
                  <a:chExt cx="2628360" cy="551160"/>
                </a:xfrm>
              </p:grpSpPr>
              <p:grpSp>
                <p:nvGrpSpPr>
                  <p:cNvPr id="847" name="그룹 34"/>
                  <p:cNvGrpSpPr/>
                  <p:nvPr/>
                </p:nvGrpSpPr>
                <p:grpSpPr>
                  <a:xfrm>
                    <a:off x="856800" y="1824120"/>
                    <a:ext cx="349200" cy="362160"/>
                    <a:chOff x="856800" y="1824120"/>
                    <a:chExt cx="349200" cy="362160"/>
                  </a:xfrm>
                </p:grpSpPr>
                <p:pic>
                  <p:nvPicPr>
                    <p:cNvPr id="84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828440"/>
                      <a:ext cx="349200" cy="35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49" name="TextBox 36"/>
                    <p:cNvSpPr/>
                    <p:nvPr/>
                  </p:nvSpPr>
                  <p:spPr>
                    <a:xfrm>
                      <a:off x="884880" y="182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0" name="직사각형 24"/>
                  <p:cNvSpPr/>
                  <p:nvPr/>
                </p:nvSpPr>
                <p:spPr>
                  <a:xfrm>
                    <a:off x="1429920" y="1714680"/>
                    <a:ext cx="2055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지능구조모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uilfor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1" name="직선 연결선 22"/>
                <p:cNvSpPr/>
                <p:nvPr/>
              </p:nvSpPr>
              <p:spPr>
                <a:xfrm>
                  <a:off x="4212720" y="2000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2" name="타원 18"/>
            <p:cNvGrpSpPr/>
            <p:nvPr/>
          </p:nvGrpSpPr>
          <p:grpSpPr>
            <a:xfrm>
              <a:off x="993240" y="2359080"/>
              <a:ext cx="225360" cy="231480"/>
              <a:chOff x="993240" y="2359080"/>
              <a:chExt cx="225360" cy="231480"/>
            </a:xfrm>
          </p:grpSpPr>
          <p:pic>
            <p:nvPicPr>
              <p:cNvPr id="85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4" name=""/>
              <p:cNvSpPr/>
              <p:nvPr/>
            </p:nvSpPr>
            <p:spPr>
              <a:xfrm rot="10800000">
                <a:off x="107352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99"/>
          <p:cNvGrpSpPr/>
          <p:nvPr/>
        </p:nvGrpSpPr>
        <p:grpSpPr>
          <a:xfrm>
            <a:off x="4111560" y="2643120"/>
            <a:ext cx="4489920" cy="3101400"/>
            <a:chOff x="4111560" y="2643120"/>
            <a:chExt cx="4489920" cy="3101400"/>
          </a:xfrm>
        </p:grpSpPr>
        <p:pic>
          <p:nvPicPr>
            <p:cNvPr id="856" name="그림 75" descr="그림1.png"/>
            <p:cNvPicPr/>
            <p:nvPr/>
          </p:nvPicPr>
          <p:blipFill>
            <a:blip r:embed="rId5"/>
            <a:stretch/>
          </p:blipFill>
          <p:spPr>
            <a:xfrm>
              <a:off x="4111560" y="2747880"/>
              <a:ext cx="3596400" cy="18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TextBox 76"/>
            <p:cNvSpPr/>
            <p:nvPr/>
          </p:nvSpPr>
          <p:spPr>
            <a:xfrm>
              <a:off x="7788240" y="3586320"/>
              <a:ext cx="3484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유목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체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함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TextBox 77"/>
            <p:cNvSpPr/>
            <p:nvPr/>
          </p:nvSpPr>
          <p:spPr>
            <a:xfrm>
              <a:off x="6225120" y="2643120"/>
              <a:ext cx="156312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징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03"/>
            <p:cNvGrpSpPr/>
            <p:nvPr/>
          </p:nvGrpSpPr>
          <p:grpSpPr>
            <a:xfrm>
              <a:off x="5943600" y="4596120"/>
              <a:ext cx="1693440" cy="855360"/>
              <a:chOff x="5943600" y="4596120"/>
              <a:chExt cx="1693440" cy="855360"/>
            </a:xfrm>
          </p:grpSpPr>
          <p:sp>
            <p:nvSpPr>
              <p:cNvPr id="860" name="TextBox 94"/>
              <p:cNvSpPr/>
              <p:nvPr/>
            </p:nvSpPr>
            <p:spPr>
              <a:xfrm>
                <a:off x="594360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TextBox 95"/>
              <p:cNvSpPr/>
              <p:nvPr/>
            </p:nvSpPr>
            <p:spPr>
              <a:xfrm>
                <a:off x="630072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TextBox 96"/>
              <p:cNvSpPr/>
              <p:nvPr/>
            </p:nvSpPr>
            <p:spPr>
              <a:xfrm>
                <a:off x="66578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확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TextBox 97"/>
              <p:cNvSpPr/>
              <p:nvPr/>
            </p:nvSpPr>
            <p:spPr>
              <a:xfrm>
                <a:off x="701496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렴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TextBox 98"/>
              <p:cNvSpPr/>
              <p:nvPr/>
            </p:nvSpPr>
            <p:spPr>
              <a:xfrm>
                <a:off x="73724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력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그룹 136"/>
            <p:cNvGrpSpPr/>
            <p:nvPr/>
          </p:nvGrpSpPr>
          <p:grpSpPr>
            <a:xfrm>
              <a:off x="6683400" y="2747880"/>
              <a:ext cx="1571400" cy="644400"/>
              <a:chOff x="6683400" y="2747880"/>
              <a:chExt cx="1571400" cy="644400"/>
            </a:xfrm>
          </p:grpSpPr>
          <p:sp>
            <p:nvSpPr>
              <p:cNvPr id="866" name="직선 연결선 91"/>
              <p:cNvSpPr/>
              <p:nvPr/>
            </p:nvSpPr>
            <p:spPr>
              <a:xfrm>
                <a:off x="6683400" y="274788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직선 연결선 92"/>
              <p:cNvSpPr/>
              <p:nvPr/>
            </p:nvSpPr>
            <p:spPr>
              <a:xfrm flipH="1" flipV="1">
                <a:off x="7111440" y="2747880"/>
                <a:ext cx="1143000" cy="64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직선 연결선 93"/>
              <p:cNvSpPr/>
              <p:nvPr/>
            </p:nvSpPr>
            <p:spPr>
              <a:xfrm>
                <a:off x="7826400" y="339084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그룹 135"/>
            <p:cNvGrpSpPr/>
            <p:nvPr/>
          </p:nvGrpSpPr>
          <p:grpSpPr>
            <a:xfrm>
              <a:off x="8183520" y="3676680"/>
              <a:ext cx="214920" cy="858960"/>
              <a:chOff x="8183520" y="3676680"/>
              <a:chExt cx="214920" cy="858960"/>
            </a:xfrm>
          </p:grpSpPr>
          <p:sp>
            <p:nvSpPr>
              <p:cNvPr id="870" name="직선 연결선 88"/>
              <p:cNvSpPr/>
              <p:nvPr/>
            </p:nvSpPr>
            <p:spPr>
              <a:xfrm>
                <a:off x="8183520" y="367668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89"/>
              <p:cNvSpPr/>
              <p:nvPr/>
            </p:nvSpPr>
            <p:spPr>
              <a:xfrm>
                <a:off x="8183520" y="453420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직선 연결선 90"/>
              <p:cNvSpPr/>
              <p:nvPr/>
            </p:nvSpPr>
            <p:spPr>
              <a:xfrm flipH="1">
                <a:off x="8397000" y="3677400"/>
                <a:ext cx="1440" cy="85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TextBox 82"/>
            <p:cNvSpPr/>
            <p:nvPr/>
          </p:nvSpPr>
          <p:spPr>
            <a:xfrm>
              <a:off x="8207280" y="39686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산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4" name="그룹 137"/>
            <p:cNvGrpSpPr/>
            <p:nvPr/>
          </p:nvGrpSpPr>
          <p:grpSpPr>
            <a:xfrm>
              <a:off x="6110640" y="5490000"/>
              <a:ext cx="1415880" cy="137880"/>
              <a:chOff x="6110640" y="5490000"/>
              <a:chExt cx="1415880" cy="137880"/>
            </a:xfrm>
          </p:grpSpPr>
          <p:sp>
            <p:nvSpPr>
              <p:cNvPr id="875" name="직선 연결선 85"/>
              <p:cNvSpPr/>
              <p:nvPr/>
            </p:nvSpPr>
            <p:spPr>
              <a:xfrm flipH="1">
                <a:off x="752400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직선 연결선 86"/>
              <p:cNvSpPr/>
              <p:nvPr/>
            </p:nvSpPr>
            <p:spPr>
              <a:xfrm flipH="1">
                <a:off x="611064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87"/>
              <p:cNvSpPr/>
              <p:nvPr/>
            </p:nvSpPr>
            <p:spPr>
              <a:xfrm flipH="1" flipV="1">
                <a:off x="6112080" y="5627160"/>
                <a:ext cx="14133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8" name="TextBox 84"/>
            <p:cNvSpPr/>
            <p:nvPr/>
          </p:nvSpPr>
          <p:spPr>
            <a:xfrm>
              <a:off x="6654240" y="54374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Box 79"/>
            <p:cNvSpPr/>
            <p:nvPr/>
          </p:nvSpPr>
          <p:spPr>
            <a:xfrm>
              <a:off x="7461000" y="289080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타원 49"/>
          <p:cNvGrpSpPr/>
          <p:nvPr/>
        </p:nvGrpSpPr>
        <p:grpSpPr>
          <a:xfrm>
            <a:off x="933480" y="4668840"/>
            <a:ext cx="225360" cy="231840"/>
            <a:chOff x="933480" y="4668840"/>
            <a:chExt cx="225360" cy="231840"/>
          </a:xfrm>
        </p:grpSpPr>
        <p:pic>
          <p:nvPicPr>
            <p:cNvPr id="881" name="타원 49" descr=""/>
            <p:cNvPicPr/>
            <p:nvPr/>
          </p:nvPicPr>
          <p:blipFill>
            <a:blip r:embed="rId6"/>
            <a:stretch/>
          </p:blipFill>
          <p:spPr>
            <a:xfrm>
              <a:off x="933480" y="4668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"/>
            <p:cNvSpPr/>
            <p:nvPr/>
          </p:nvSpPr>
          <p:spPr>
            <a:xfrm rot="10800000">
              <a:off x="1014480" y="472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직사각형 50"/>
          <p:cNvSpPr/>
          <p:nvPr/>
        </p:nvSpPr>
        <p:spPr>
          <a:xfrm>
            <a:off x="1214280" y="4500720"/>
            <a:ext cx="364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용 측면에서 의미적 내용에 치중한 반면 나머지 내용은 상대적으로 등안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85" name="슬라이드 번호 개체 틀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0747E-DEA5-4877-B857-3B1FC00ACE7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그룹 37"/>
          <p:cNvGrpSpPr/>
          <p:nvPr/>
        </p:nvGrpSpPr>
        <p:grpSpPr>
          <a:xfrm>
            <a:off x="214200" y="1643040"/>
            <a:ext cx="8501040" cy="4500720"/>
            <a:chOff x="214200" y="1643040"/>
            <a:chExt cx="8501040" cy="4500720"/>
          </a:xfrm>
        </p:grpSpPr>
        <p:grpSp>
          <p:nvGrpSpPr>
            <p:cNvPr id="887" name="그룹 37"/>
            <p:cNvGrpSpPr/>
            <p:nvPr/>
          </p:nvGrpSpPr>
          <p:grpSpPr>
            <a:xfrm>
              <a:off x="214200" y="1643040"/>
              <a:ext cx="8501040" cy="4500720"/>
              <a:chOff x="214200" y="1643040"/>
              <a:chExt cx="8501040" cy="4500720"/>
            </a:xfrm>
          </p:grpSpPr>
          <p:grpSp>
            <p:nvGrpSpPr>
              <p:cNvPr id="888" name="그룹 91"/>
              <p:cNvGrpSpPr/>
              <p:nvPr/>
            </p:nvGrpSpPr>
            <p:grpSpPr>
              <a:xfrm>
                <a:off x="214200" y="1714320"/>
                <a:ext cx="8501040" cy="4429440"/>
                <a:chOff x="214200" y="1714320"/>
                <a:chExt cx="8501040" cy="4429440"/>
              </a:xfrm>
            </p:grpSpPr>
            <p:pic>
              <p:nvPicPr>
                <p:cNvPr id="88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714320"/>
                  <a:ext cx="8501040" cy="44294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90" name="직사각형 27"/>
                <p:cNvSpPr/>
                <p:nvPr/>
              </p:nvSpPr>
              <p:spPr>
                <a:xfrm>
                  <a:off x="1214280" y="21222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을 구성하는 요인들이 위계를 이루고 있다고 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그룹 44"/>
              <p:cNvGrpSpPr/>
              <p:nvPr/>
            </p:nvGrpSpPr>
            <p:grpSpPr>
              <a:xfrm>
                <a:off x="856800" y="1643040"/>
                <a:ext cx="7574040" cy="551160"/>
                <a:chOff x="856800" y="1643040"/>
                <a:chExt cx="7574040" cy="551160"/>
              </a:xfrm>
            </p:grpSpPr>
            <p:grpSp>
              <p:nvGrpSpPr>
                <p:cNvPr id="892" name="그룹 91"/>
                <p:cNvGrpSpPr/>
                <p:nvPr/>
              </p:nvGrpSpPr>
              <p:grpSpPr>
                <a:xfrm>
                  <a:off x="856800" y="1643040"/>
                  <a:ext cx="1542960" cy="551160"/>
                  <a:chOff x="856800" y="1643040"/>
                  <a:chExt cx="1542960" cy="551160"/>
                </a:xfrm>
              </p:grpSpPr>
              <p:grpSp>
                <p:nvGrpSpPr>
                  <p:cNvPr id="893" name="그룹 34"/>
                  <p:cNvGrpSpPr/>
                  <p:nvPr/>
                </p:nvGrpSpPr>
                <p:grpSpPr>
                  <a:xfrm>
                    <a:off x="856800" y="1752480"/>
                    <a:ext cx="349200" cy="361800"/>
                    <a:chOff x="856800" y="1752480"/>
                    <a:chExt cx="349200" cy="361800"/>
                  </a:xfrm>
                </p:grpSpPr>
                <p:pic>
                  <p:nvPicPr>
                    <p:cNvPr id="89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76112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95" name="TextBox 36"/>
                    <p:cNvSpPr/>
                    <p:nvPr/>
                  </p:nvSpPr>
                  <p:spPr>
                    <a:xfrm>
                      <a:off x="88488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6" name="직사각형 23"/>
                  <p:cNvSpPr/>
                  <p:nvPr/>
                </p:nvSpPr>
                <p:spPr>
                  <a:xfrm>
                    <a:off x="1391400" y="1643040"/>
                    <a:ext cx="10083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위계적 모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7" name="직선 연결선 21"/>
                <p:cNvSpPr/>
                <p:nvPr/>
              </p:nvSpPr>
              <p:spPr>
                <a:xfrm>
                  <a:off x="4212720" y="19288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8" name="타원 17"/>
            <p:cNvGrpSpPr/>
            <p:nvPr/>
          </p:nvGrpSpPr>
          <p:grpSpPr>
            <a:xfrm>
              <a:off x="993240" y="2286000"/>
              <a:ext cx="225360" cy="231480"/>
              <a:chOff x="993240" y="2286000"/>
              <a:chExt cx="225360" cy="231480"/>
            </a:xfrm>
          </p:grpSpPr>
          <p:pic>
            <p:nvPicPr>
              <p:cNvPr id="899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0" name=""/>
              <p:cNvSpPr/>
              <p:nvPr/>
            </p:nvSpPr>
            <p:spPr>
              <a:xfrm rot="10800000">
                <a:off x="107352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1" name="그룹 30"/>
          <p:cNvGrpSpPr/>
          <p:nvPr/>
        </p:nvGrpSpPr>
        <p:grpSpPr>
          <a:xfrm>
            <a:off x="654480" y="3786120"/>
            <a:ext cx="7775280" cy="2058480"/>
            <a:chOff x="654480" y="3786120"/>
            <a:chExt cx="7775280" cy="2058480"/>
          </a:xfrm>
        </p:grpSpPr>
        <p:grpSp>
          <p:nvGrpSpPr>
            <p:cNvPr id="902" name="그룹 142"/>
            <p:cNvGrpSpPr/>
            <p:nvPr/>
          </p:nvGrpSpPr>
          <p:grpSpPr>
            <a:xfrm>
              <a:off x="654480" y="3786120"/>
              <a:ext cx="3989160" cy="551160"/>
              <a:chOff x="654480" y="3786120"/>
              <a:chExt cx="3989160" cy="551160"/>
            </a:xfrm>
          </p:grpSpPr>
          <p:grpSp>
            <p:nvGrpSpPr>
              <p:cNvPr id="903" name="그룹 97"/>
              <p:cNvGrpSpPr/>
              <p:nvPr/>
            </p:nvGrpSpPr>
            <p:grpSpPr>
              <a:xfrm>
                <a:off x="654480" y="3901320"/>
                <a:ext cx="340920" cy="307080"/>
                <a:chOff x="654480" y="3901320"/>
                <a:chExt cx="340920" cy="307080"/>
              </a:xfrm>
            </p:grpSpPr>
            <p:pic>
              <p:nvPicPr>
                <p:cNvPr id="904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76440" y="391932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TextBox 146"/>
                <p:cNvSpPr/>
                <p:nvPr/>
              </p:nvSpPr>
              <p:spPr>
                <a:xfrm>
                  <a:off x="654480" y="390132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6" name="직사각형 36"/>
              <p:cNvSpPr/>
              <p:nvPr/>
            </p:nvSpPr>
            <p:spPr>
              <a:xfrm>
                <a:off x="811080" y="3786120"/>
                <a:ext cx="38325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이론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attell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7" name="직선 연결선 30"/>
            <p:cNvSpPr/>
            <p:nvPr/>
          </p:nvSpPr>
          <p:spPr>
            <a:xfrm>
              <a:off x="4843440" y="4071600"/>
              <a:ext cx="35863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8" name="그룹 114"/>
            <p:cNvGrpSpPr/>
            <p:nvPr/>
          </p:nvGrpSpPr>
          <p:grpSpPr>
            <a:xfrm>
              <a:off x="1038240" y="4241880"/>
              <a:ext cx="7377480" cy="1602720"/>
              <a:chOff x="1038240" y="4241880"/>
              <a:chExt cx="7377480" cy="1602720"/>
            </a:xfrm>
          </p:grpSpPr>
          <p:sp>
            <p:nvSpPr>
              <p:cNvPr id="909" name="직사각형 37"/>
              <p:cNvSpPr/>
              <p:nvPr/>
            </p:nvSpPr>
            <p:spPr>
              <a:xfrm>
                <a:off x="1243080" y="4241880"/>
                <a:ext cx="7172640" cy="160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rystalized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경험이나 교육의 영향을 받아 획득한 능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휘이해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리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luid 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생물학적으로 결정되는 생리적 및 신경적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유추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상적 관계이해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타원 33"/>
              <p:cNvGrpSpPr/>
              <p:nvPr/>
            </p:nvGrpSpPr>
            <p:grpSpPr>
              <a:xfrm>
                <a:off x="1038240" y="4388760"/>
                <a:ext cx="223200" cy="231480"/>
                <a:chOff x="1038240" y="4388760"/>
                <a:chExt cx="223200" cy="231480"/>
              </a:xfrm>
            </p:grpSpPr>
            <p:pic>
              <p:nvPicPr>
                <p:cNvPr id="911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38240" y="438876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 rot="10800000">
                  <a:off x="1120320" y="4443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3" name="타원 34"/>
              <p:cNvGrpSpPr/>
              <p:nvPr/>
            </p:nvGrpSpPr>
            <p:grpSpPr>
              <a:xfrm>
                <a:off x="1038240" y="5218200"/>
                <a:ext cx="223200" cy="231480"/>
                <a:chOff x="1038240" y="5218200"/>
                <a:chExt cx="223200" cy="231480"/>
              </a:xfrm>
            </p:grpSpPr>
            <p:pic>
              <p:nvPicPr>
                <p:cNvPr id="914" name="타원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3824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5" name=""/>
                <p:cNvSpPr/>
                <p:nvPr/>
              </p:nvSpPr>
              <p:spPr>
                <a:xfrm rot="10800000">
                  <a:off x="1120320" y="52740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16" name="타원 35"/>
          <p:cNvGrpSpPr/>
          <p:nvPr/>
        </p:nvGrpSpPr>
        <p:grpSpPr>
          <a:xfrm>
            <a:off x="1006560" y="2932200"/>
            <a:ext cx="225360" cy="231840"/>
            <a:chOff x="1006560" y="2932200"/>
            <a:chExt cx="225360" cy="231840"/>
          </a:xfrm>
        </p:grpSpPr>
        <p:pic>
          <p:nvPicPr>
            <p:cNvPr id="917" name="타원 35" descr=""/>
            <p:cNvPicPr/>
            <p:nvPr/>
          </p:nvPicPr>
          <p:blipFill>
            <a:blip r:embed="rId8"/>
            <a:stretch/>
          </p:blipFill>
          <p:spPr>
            <a:xfrm>
              <a:off x="1006560" y="2932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 rot="10800000">
              <a:off x="1085760" y="29876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직사각형 38"/>
          <p:cNvSpPr/>
          <p:nvPr/>
        </p:nvSpPr>
        <p:spPr>
          <a:xfrm>
            <a:off x="1214280" y="271944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Veron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상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교육적 능력과 수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계적 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하위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능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21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BB201-80A6-4B52-A448-596C36770A8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923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924" name="직사각형 16"/>
              <p:cNvSpPr/>
              <p:nvPr/>
            </p:nvSpPr>
            <p:spPr>
              <a:xfrm>
                <a:off x="1468440" y="1386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6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927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8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9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0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1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33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35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attention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와 각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의식적으로 선택하는 과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시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imultaneous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한 정보를 한꺼번에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속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ccessive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순서대로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획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lann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위계획을 수립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천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 효과를 평가하는 과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적 결손을 나타내는 아동을 진단하여 교정할 수 있는 방식을 제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4"/>
            <p:cNvGrpSpPr/>
            <p:nvPr/>
          </p:nvGrpSpPr>
          <p:grpSpPr>
            <a:xfrm>
              <a:off x="856800" y="2071800"/>
              <a:ext cx="7574400" cy="551160"/>
              <a:chOff x="856800" y="2071800"/>
              <a:chExt cx="7574400" cy="551160"/>
            </a:xfrm>
          </p:grpSpPr>
          <p:grpSp>
            <p:nvGrpSpPr>
              <p:cNvPr id="937" name="그룹 91"/>
              <p:cNvGrpSpPr/>
              <p:nvPr/>
            </p:nvGrpSpPr>
            <p:grpSpPr>
              <a:xfrm>
                <a:off x="856800" y="2071800"/>
                <a:ext cx="1607760" cy="551160"/>
                <a:chOff x="856800" y="2071800"/>
                <a:chExt cx="1607760" cy="551160"/>
              </a:xfrm>
            </p:grpSpPr>
            <p:grpSp>
              <p:nvGrpSpPr>
                <p:cNvPr id="938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3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0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1" name="직사각형 26"/>
                <p:cNvSpPr/>
                <p:nvPr/>
              </p:nvSpPr>
              <p:spPr>
                <a:xfrm>
                  <a:off x="1254960" y="2071800"/>
                  <a:ext cx="12096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PASS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이론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2" name="직선 연결선 24"/>
              <p:cNvSpPr/>
              <p:nvPr/>
            </p:nvSpPr>
            <p:spPr>
              <a:xfrm>
                <a:off x="4213080" y="2357640"/>
                <a:ext cx="4218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3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44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5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47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50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53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4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56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17C55-D582-4F24-8BF5-3FBC28D8549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58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59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0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기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적 기억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풍부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속도가 빠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 용량이 크다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메타인지 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1" name="그룹 44"/>
            <p:cNvGrpSpPr/>
            <p:nvPr/>
          </p:nvGrpSpPr>
          <p:grpSpPr>
            <a:xfrm>
              <a:off x="856800" y="2071800"/>
              <a:ext cx="7715520" cy="551160"/>
              <a:chOff x="856800" y="2071800"/>
              <a:chExt cx="7715520" cy="551160"/>
            </a:xfrm>
          </p:grpSpPr>
          <p:grpSp>
            <p:nvGrpSpPr>
              <p:cNvPr id="962" name="그룹 91"/>
              <p:cNvGrpSpPr/>
              <p:nvPr/>
            </p:nvGrpSpPr>
            <p:grpSpPr>
              <a:xfrm>
                <a:off x="856800" y="2071800"/>
                <a:ext cx="3527640" cy="551160"/>
                <a:chOff x="856800" y="2071800"/>
                <a:chExt cx="3527640" cy="551160"/>
              </a:xfrm>
            </p:grpSpPr>
            <p:grpSp>
              <p:nvGrpSpPr>
                <p:cNvPr id="963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64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5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6" name="직사각형 26"/>
                <p:cNvSpPr/>
                <p:nvPr/>
              </p:nvSpPr>
              <p:spPr>
                <a:xfrm>
                  <a:off x="1894680" y="2071800"/>
                  <a:ext cx="248976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지능 수준에 따른 인지과정 차이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7" name="직선 연결선 24"/>
              <p:cNvSpPr/>
              <p:nvPr/>
            </p:nvSpPr>
            <p:spPr>
              <a:xfrm>
                <a:off x="5213160" y="2357280"/>
                <a:ext cx="335916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8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69" name="Picture 177" descr="bull"/>
            <p:cNvPicPr/>
            <p:nvPr/>
          </p:nvPicPr>
          <p:blipFill>
            <a:blip r:embed="rId4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72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75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78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9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그룹 97"/>
          <p:cNvGrpSpPr/>
          <p:nvPr/>
        </p:nvGrpSpPr>
        <p:grpSpPr>
          <a:xfrm>
            <a:off x="779040" y="5500800"/>
            <a:ext cx="295200" cy="337320"/>
            <a:chOff x="779040" y="5500800"/>
            <a:chExt cx="295200" cy="337320"/>
          </a:xfrm>
        </p:grpSpPr>
        <p:pic>
          <p:nvPicPr>
            <p:cNvPr id="981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5547240"/>
              <a:ext cx="28368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2" name="TextBox 146"/>
            <p:cNvSpPr/>
            <p:nvPr/>
          </p:nvSpPr>
          <p:spPr>
            <a:xfrm>
              <a:off x="779040" y="5500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984" name="그룹 45"/>
          <p:cNvGrpSpPr/>
          <p:nvPr/>
        </p:nvGrpSpPr>
        <p:grpSpPr>
          <a:xfrm>
            <a:off x="785880" y="3429000"/>
            <a:ext cx="7570800" cy="2970360"/>
            <a:chOff x="785880" y="3429000"/>
            <a:chExt cx="7570800" cy="2970360"/>
          </a:xfrm>
        </p:grpSpPr>
        <p:sp>
          <p:nvSpPr>
            <p:cNvPr id="985" name="Rectangle 76"/>
            <p:cNvSpPr/>
            <p:nvPr/>
          </p:nvSpPr>
          <p:spPr>
            <a:xfrm>
              <a:off x="785880" y="3429000"/>
              <a:ext cx="7570800" cy="2970360"/>
            </a:xfrm>
            <a:prstGeom prst="rect">
              <a:avLst/>
            </a:prstGeom>
            <a:gradFill rotWithShape="0">
              <a:gsLst>
                <a:gs pos="0">
                  <a:srgbClr val="fdfdfd"/>
                </a:gs>
                <a:gs pos="100000">
                  <a:srgbClr val="c9c5c4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50040" bIns="50040" anchor="ctr">
              <a:noAutofit/>
            </a:bodyPr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그룹 37"/>
            <p:cNvGrpSpPr/>
            <p:nvPr/>
          </p:nvGrpSpPr>
          <p:grpSpPr>
            <a:xfrm>
              <a:off x="1129320" y="3523320"/>
              <a:ext cx="6919200" cy="2844720"/>
              <a:chOff x="1129320" y="3523320"/>
              <a:chExt cx="6919200" cy="2844720"/>
            </a:xfrm>
          </p:grpSpPr>
          <p:sp>
            <p:nvSpPr>
              <p:cNvPr id="987" name="Line 3"/>
              <p:cNvSpPr/>
              <p:nvPr/>
            </p:nvSpPr>
            <p:spPr>
              <a:xfrm>
                <a:off x="2151720" y="45082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4"/>
              <p:cNvSpPr/>
              <p:nvPr/>
            </p:nvSpPr>
            <p:spPr>
              <a:xfrm>
                <a:off x="2151720" y="50914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Line 5"/>
              <p:cNvSpPr/>
              <p:nvPr/>
            </p:nvSpPr>
            <p:spPr>
              <a:xfrm>
                <a:off x="2151720" y="564444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Line 6"/>
              <p:cNvSpPr/>
              <p:nvPr/>
            </p:nvSpPr>
            <p:spPr>
              <a:xfrm>
                <a:off x="2151720" y="614520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7"/>
              <p:cNvSpPr/>
              <p:nvPr/>
            </p:nvSpPr>
            <p:spPr>
              <a:xfrm>
                <a:off x="2160360" y="392292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AutoShape 8"/>
              <p:cNvSpPr/>
              <p:nvPr/>
            </p:nvSpPr>
            <p:spPr>
              <a:xfrm>
                <a:off x="1293480" y="5345640"/>
                <a:ext cx="1361520" cy="1022400"/>
              </a:xfrm>
              <a:prstGeom prst="diamond">
                <a:avLst/>
              </a:prstGeom>
              <a:gradFill rotWithShape="0">
                <a:gsLst>
                  <a:gs pos="0">
                    <a:srgbClr val="767647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AutoShape 9"/>
              <p:cNvSpPr/>
              <p:nvPr/>
            </p:nvSpPr>
            <p:spPr>
              <a:xfrm>
                <a:off x="1273320" y="4758840"/>
                <a:ext cx="1423440" cy="1160640"/>
              </a:xfrm>
              <a:prstGeom prst="diamond">
                <a:avLst/>
              </a:prstGeom>
              <a:gradFill rotWithShape="0">
                <a:gsLst>
                  <a:gs pos="0">
                    <a:srgbClr val="5e7647"/>
                  </a:gs>
                  <a:gs pos="100000">
                    <a:srgbClr val="cc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AutoShape 10"/>
              <p:cNvSpPr/>
              <p:nvPr/>
            </p:nvSpPr>
            <p:spPr>
              <a:xfrm>
                <a:off x="1221480" y="4155840"/>
                <a:ext cx="1527480" cy="1190520"/>
              </a:xfrm>
              <a:prstGeom prst="diamond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99ffcc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AutoShape 11"/>
              <p:cNvSpPr/>
              <p:nvPr/>
            </p:nvSpPr>
            <p:spPr>
              <a:xfrm>
                <a:off x="1182600" y="3523320"/>
                <a:ext cx="1609560" cy="1254240"/>
              </a:xfrm>
              <a:prstGeom prst="diamond">
                <a:avLst/>
              </a:prstGeom>
              <a:gradFill rotWithShape="0">
                <a:gsLst>
                  <a:gs pos="0">
                    <a:srgbClr val="2f7676"/>
                  </a:gs>
                  <a:gs pos="100000">
                    <a:srgbClr val="66ffff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12"/>
              <p:cNvSpPr/>
              <p:nvPr/>
            </p:nvSpPr>
            <p:spPr>
              <a:xfrm>
                <a:off x="1129320" y="3614040"/>
                <a:ext cx="872640" cy="2696760"/>
              </a:xfrm>
              <a:prstGeom prst="pie">
                <a:avLst/>
              </a:prstGeom>
              <a:solidFill>
                <a:srgbClr val="c0c0c0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13"/>
              <p:cNvSpPr/>
              <p:nvPr/>
            </p:nvSpPr>
            <p:spPr>
              <a:xfrm>
                <a:off x="1978920" y="3614040"/>
                <a:ext cx="865440" cy="2696760"/>
              </a:xfrm>
              <a:prstGeom prst="pie">
                <a:avLst/>
              </a:prstGeom>
              <a:solidFill>
                <a:srgbClr val="c0c0c0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Rectangle 22"/>
              <p:cNvSpPr/>
              <p:nvPr/>
            </p:nvSpPr>
            <p:spPr>
              <a:xfrm>
                <a:off x="3630240" y="3593880"/>
                <a:ext cx="372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들은 상호독립적이며 각 지능의 상대적 중요성은 같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Rectangle 23"/>
              <p:cNvSpPr/>
              <p:nvPr/>
            </p:nvSpPr>
            <p:spPr>
              <a:xfrm>
                <a:off x="3357000" y="4178160"/>
                <a:ext cx="2657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문화의존적이고 상황의존적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Rectangle 24"/>
              <p:cNvSpPr/>
              <p:nvPr/>
            </p:nvSpPr>
            <p:spPr>
              <a:xfrm>
                <a:off x="3601080" y="4779720"/>
                <a:ext cx="3519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교육 및 훈련을 통해 상당 부분 촉진할 수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Rectangle 25"/>
              <p:cNvSpPr/>
              <p:nvPr/>
            </p:nvSpPr>
            <p:spPr>
              <a:xfrm>
                <a:off x="3445560" y="5322960"/>
                <a:ext cx="396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육에서는 사회에서 중시되는 다양한 능력을 길러주어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Rectangle 26"/>
              <p:cNvSpPr/>
              <p:nvPr/>
            </p:nvSpPr>
            <p:spPr>
              <a:xfrm>
                <a:off x="3333960" y="5823720"/>
                <a:ext cx="2642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과를 다양한 방식으로 가르쳐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3" name="슬라이드 번호 개체 틀 2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CECFA-196D-49B3-B04B-84F364A2223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4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05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06" name="직사각형 31"/>
              <p:cNvSpPr/>
              <p:nvPr/>
            </p:nvSpPr>
            <p:spPr>
              <a:xfrm>
                <a:off x="1566000" y="1386360"/>
                <a:ext cx="49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다중지능 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ultiple intelligences theory, Gardn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8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09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0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2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3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그룹 43"/>
          <p:cNvGrpSpPr/>
          <p:nvPr/>
        </p:nvGrpSpPr>
        <p:grpSpPr>
          <a:xfrm>
            <a:off x="571680" y="1811160"/>
            <a:ext cx="8072280" cy="1487520"/>
            <a:chOff x="571680" y="1811160"/>
            <a:chExt cx="8072280" cy="1487520"/>
          </a:xfrm>
        </p:grpSpPr>
        <p:pic>
          <p:nvPicPr>
            <p:cNvPr id="101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11160"/>
              <a:ext cx="8072280" cy="148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16" name="타원 3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17" name="타원 3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36"/>
            <p:cNvSpPr/>
            <p:nvPr/>
          </p:nvSpPr>
          <p:spPr>
            <a:xfrm>
              <a:off x="928800" y="1999800"/>
              <a:ext cx="7669080" cy="12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 상호독립적인 여러 지능들로 구성된다고 주장하는 이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논리수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체운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음악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인관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내적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연관찰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AutoShape 4"/>
          <p:cNvSpPr/>
          <p:nvPr/>
        </p:nvSpPr>
        <p:spPr>
          <a:xfrm>
            <a:off x="428760" y="3857760"/>
            <a:ext cx="2692440" cy="2571480"/>
          </a:xfrm>
          <a:prstGeom prst="roundRect">
            <a:avLst>
              <a:gd name="adj" fmla="val 8500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분석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해결을 계획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가하는 고등정신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행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의 지시를 받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획득 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할 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있는 방법을 학습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22" name="AutoShape 4"/>
          <p:cNvSpPr/>
          <p:nvPr/>
        </p:nvSpPr>
        <p:spPr>
          <a:xfrm>
            <a:off x="6143760" y="4105440"/>
            <a:ext cx="2692440" cy="2323800"/>
          </a:xfrm>
          <a:prstGeom prst="roundRect">
            <a:avLst>
              <a:gd name="adj" fmla="val 6926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144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실용적 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 환경에 적응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환경을 변형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환경을 선택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4"/>
          <p:cNvSpPr/>
          <p:nvPr/>
        </p:nvSpPr>
        <p:spPr>
          <a:xfrm>
            <a:off x="3286080" y="4786200"/>
            <a:ext cx="2692440" cy="1643040"/>
          </a:xfrm>
          <a:prstGeom prst="roundRect">
            <a:avLst>
              <a:gd name="adj" fmla="val 8009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88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창의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비교적 새로운 문제를 해결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보처리를 자동화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슬라이드 번호 개체 틀 27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E1382-715E-41EC-83F6-F7A009448D7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2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27" name="직사각형 34"/>
              <p:cNvSpPr/>
              <p:nvPr/>
            </p:nvSpPr>
            <p:spPr>
              <a:xfrm>
                <a:off x="1710720" y="1386360"/>
                <a:ext cx="328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공지능에 대한 삼원이론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ernberg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3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3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03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37" name="타원 3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38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0" name="직사각형 39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란 적합한 환경을 선택하거나 변형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환경에 적응하는 능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공지능은 분석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창의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용적 능력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1" name="타원 40"/>
            <p:cNvGrpSpPr/>
            <p:nvPr/>
          </p:nvGrpSpPr>
          <p:grpSpPr>
            <a:xfrm>
              <a:off x="859680" y="2602800"/>
              <a:ext cx="225360" cy="231480"/>
              <a:chOff x="859680" y="2602800"/>
              <a:chExt cx="225360" cy="231480"/>
            </a:xfrm>
          </p:grpSpPr>
          <p:pic>
            <p:nvPicPr>
              <p:cNvPr id="1042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859680" y="2602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3" name=""/>
              <p:cNvSpPr/>
              <p:nvPr/>
            </p:nvSpPr>
            <p:spPr>
              <a:xfrm rot="10800000">
                <a:off x="943200" y="265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4" name="그룹 41"/>
          <p:cNvGrpSpPr/>
          <p:nvPr/>
        </p:nvGrpSpPr>
        <p:grpSpPr>
          <a:xfrm>
            <a:off x="2198520" y="3306600"/>
            <a:ext cx="4714920" cy="1622520"/>
            <a:chOff x="2198520" y="3306600"/>
            <a:chExt cx="4714920" cy="1622520"/>
          </a:xfrm>
        </p:grpSpPr>
        <p:sp>
          <p:nvSpPr>
            <p:cNvPr id="1045" name="AutoShape 21"/>
            <p:cNvSpPr/>
            <p:nvPr/>
          </p:nvSpPr>
          <p:spPr>
            <a:xfrm flipV="1">
              <a:off x="2694600" y="3718080"/>
              <a:ext cx="3722400" cy="9889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9291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그룹 42"/>
            <p:cNvGrpSpPr/>
            <p:nvPr/>
          </p:nvGrpSpPr>
          <p:grpSpPr>
            <a:xfrm>
              <a:off x="4041720" y="4104000"/>
              <a:ext cx="1031400" cy="825120"/>
              <a:chOff x="4041720" y="4104000"/>
              <a:chExt cx="1031400" cy="825120"/>
            </a:xfrm>
          </p:grpSpPr>
          <p:grpSp>
            <p:nvGrpSpPr>
              <p:cNvPr id="1047" name="Group 5"/>
              <p:cNvGrpSpPr/>
              <p:nvPr/>
            </p:nvGrpSpPr>
            <p:grpSpPr>
              <a:xfrm>
                <a:off x="4041720" y="4104000"/>
                <a:ext cx="1031400" cy="825120"/>
                <a:chOff x="4041720" y="4104000"/>
                <a:chExt cx="1031400" cy="825120"/>
              </a:xfrm>
            </p:grpSpPr>
            <p:sp>
              <p:nvSpPr>
                <p:cNvPr id="1048" name="AutoShape 6"/>
                <p:cNvSpPr/>
                <p:nvPr/>
              </p:nvSpPr>
              <p:spPr>
                <a:xfrm>
                  <a:off x="4050000" y="413028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AutoShape 7"/>
                <p:cNvSpPr/>
                <p:nvPr/>
              </p:nvSpPr>
              <p:spPr>
                <a:xfrm>
                  <a:off x="4041720" y="410400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AutoShape 8"/>
                <p:cNvSpPr/>
                <p:nvPr/>
              </p:nvSpPr>
              <p:spPr>
                <a:xfrm>
                  <a:off x="4101480" y="41518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7262ec"/>
                    </a:gs>
                    <a:gs pos="100000">
                      <a:srgbClr val="2614aa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Text Box 17"/>
              <p:cNvSpPr/>
              <p:nvPr/>
            </p:nvSpPr>
            <p:spPr>
              <a:xfrm>
                <a:off x="4181760" y="42487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경험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3"/>
            <p:cNvGrpSpPr/>
            <p:nvPr/>
          </p:nvGrpSpPr>
          <p:grpSpPr>
            <a:xfrm>
              <a:off x="2198520" y="3306600"/>
              <a:ext cx="1031400" cy="812160"/>
              <a:chOff x="2198520" y="3306600"/>
              <a:chExt cx="1031400" cy="812160"/>
            </a:xfrm>
          </p:grpSpPr>
          <p:grpSp>
            <p:nvGrpSpPr>
              <p:cNvPr id="1053" name="Group 9"/>
              <p:cNvGrpSpPr/>
              <p:nvPr/>
            </p:nvGrpSpPr>
            <p:grpSpPr>
              <a:xfrm>
                <a:off x="2198520" y="3306600"/>
                <a:ext cx="1031400" cy="812160"/>
                <a:chOff x="2198520" y="3306600"/>
                <a:chExt cx="1031400" cy="812160"/>
              </a:xfrm>
            </p:grpSpPr>
            <p:sp>
              <p:nvSpPr>
                <p:cNvPr id="1054" name="AutoShape 10"/>
                <p:cNvSpPr/>
                <p:nvPr/>
              </p:nvSpPr>
              <p:spPr>
                <a:xfrm>
                  <a:off x="2206800" y="332028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AutoShape 11"/>
                <p:cNvSpPr/>
                <p:nvPr/>
              </p:nvSpPr>
              <p:spPr>
                <a:xfrm>
                  <a:off x="2198520" y="330660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AutoShape 12"/>
                <p:cNvSpPr/>
                <p:nvPr/>
              </p:nvSpPr>
              <p:spPr>
                <a:xfrm>
                  <a:off x="2258280" y="33544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24b443"/>
                    </a:gs>
                    <a:gs pos="100000">
                      <a:srgbClr val="115d16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7" name="Text Box 18"/>
              <p:cNvSpPr/>
              <p:nvPr/>
            </p:nvSpPr>
            <p:spPr>
              <a:xfrm>
                <a:off x="2338560" y="343584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요소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8" name="그룹 41"/>
            <p:cNvGrpSpPr/>
            <p:nvPr/>
          </p:nvGrpSpPr>
          <p:grpSpPr>
            <a:xfrm>
              <a:off x="5883120" y="3306600"/>
              <a:ext cx="1030320" cy="812160"/>
              <a:chOff x="5883120" y="3306600"/>
              <a:chExt cx="1030320" cy="812160"/>
            </a:xfrm>
          </p:grpSpPr>
          <p:grpSp>
            <p:nvGrpSpPr>
              <p:cNvPr id="1059" name="Group 13"/>
              <p:cNvGrpSpPr/>
              <p:nvPr/>
            </p:nvGrpSpPr>
            <p:grpSpPr>
              <a:xfrm>
                <a:off x="5883120" y="3306600"/>
                <a:ext cx="1030320" cy="812160"/>
                <a:chOff x="5883120" y="3306600"/>
                <a:chExt cx="1030320" cy="812160"/>
              </a:xfrm>
            </p:grpSpPr>
            <p:sp>
              <p:nvSpPr>
                <p:cNvPr id="1060" name="AutoShape 14"/>
                <p:cNvSpPr/>
                <p:nvPr/>
              </p:nvSpPr>
              <p:spPr>
                <a:xfrm>
                  <a:off x="5891760" y="332028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AutoShape 15"/>
                <p:cNvSpPr/>
                <p:nvPr/>
              </p:nvSpPr>
              <p:spPr>
                <a:xfrm>
                  <a:off x="5883120" y="330660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AutoShape 16"/>
                <p:cNvSpPr/>
                <p:nvPr/>
              </p:nvSpPr>
              <p:spPr>
                <a:xfrm>
                  <a:off x="5942880" y="3354480"/>
                  <a:ext cx="897840" cy="702360"/>
                </a:xfrm>
                <a:prstGeom prst="hexagon">
                  <a:avLst>
                    <a:gd name="adj" fmla="val 31958"/>
                    <a:gd name="vf" fmla="val 115470"/>
                  </a:avLst>
                </a:prstGeom>
                <a:gradFill rotWithShape="0">
                  <a:gsLst>
                    <a:gs pos="0">
                      <a:srgbClr val="cc7032"/>
                    </a:gs>
                    <a:gs pos="100000">
                      <a:srgbClr val="844820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3" name="Text Box 19"/>
              <p:cNvSpPr/>
              <p:nvPr/>
            </p:nvSpPr>
            <p:spPr>
              <a:xfrm>
                <a:off x="6022440" y="34614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맥락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65" name="AutoShape 3"/>
          <p:cNvSpPr/>
          <p:nvPr/>
        </p:nvSpPr>
        <p:spPr>
          <a:xfrm>
            <a:off x="231444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의 정확한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인식을 토대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적절하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환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절제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그룹 71"/>
          <p:cNvGrpSpPr/>
          <p:nvPr/>
        </p:nvGrpSpPr>
        <p:grpSpPr>
          <a:xfrm>
            <a:off x="792000" y="3458520"/>
            <a:ext cx="7259760" cy="1241280"/>
            <a:chOff x="792000" y="3458520"/>
            <a:chExt cx="7259760" cy="1241280"/>
          </a:xfrm>
        </p:grpSpPr>
        <p:sp>
          <p:nvSpPr>
            <p:cNvPr id="1067" name="Rectangle 6"/>
            <p:cNvSpPr/>
            <p:nvPr/>
          </p:nvSpPr>
          <p:spPr>
            <a:xfrm rot="3418800">
              <a:off x="979560" y="366372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8" name="Group 7"/>
            <p:cNvGrpSpPr/>
            <p:nvPr/>
          </p:nvGrpSpPr>
          <p:grpSpPr>
            <a:xfrm>
              <a:off x="1833480" y="3816720"/>
              <a:ext cx="828720" cy="117000"/>
              <a:chOff x="1833480" y="3816720"/>
              <a:chExt cx="828720" cy="117000"/>
            </a:xfrm>
          </p:grpSpPr>
          <p:sp>
            <p:nvSpPr>
              <p:cNvPr id="1069" name="Oval 8"/>
              <p:cNvSpPr/>
              <p:nvPr/>
            </p:nvSpPr>
            <p:spPr>
              <a:xfrm>
                <a:off x="183348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Rectangle 9"/>
              <p:cNvSpPr/>
              <p:nvPr/>
            </p:nvSpPr>
            <p:spPr>
              <a:xfrm>
                <a:off x="191304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Oval 10"/>
              <p:cNvSpPr/>
              <p:nvPr/>
            </p:nvSpPr>
            <p:spPr>
              <a:xfrm>
                <a:off x="253656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Oval 11"/>
              <p:cNvSpPr/>
              <p:nvPr/>
            </p:nvSpPr>
            <p:spPr>
              <a:xfrm>
                <a:off x="260424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3" name="Rectangle 12"/>
            <p:cNvSpPr/>
            <p:nvPr/>
          </p:nvSpPr>
          <p:spPr>
            <a:xfrm rot="3418800">
              <a:off x="2512800" y="3605040"/>
              <a:ext cx="823680" cy="894240"/>
            </a:xfrm>
            <a:prstGeom prst="rect">
              <a:avLst/>
            </a:prstGeom>
            <a:solidFill>
              <a:srgbClr val="5491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4" name="Group 13"/>
            <p:cNvGrpSpPr/>
            <p:nvPr/>
          </p:nvGrpSpPr>
          <p:grpSpPr>
            <a:xfrm>
              <a:off x="3366720" y="3816720"/>
              <a:ext cx="828720" cy="117000"/>
              <a:chOff x="3366720" y="3816720"/>
              <a:chExt cx="828720" cy="117000"/>
            </a:xfrm>
          </p:grpSpPr>
          <p:sp>
            <p:nvSpPr>
              <p:cNvPr id="1075" name="Oval 14"/>
              <p:cNvSpPr/>
              <p:nvPr/>
            </p:nvSpPr>
            <p:spPr>
              <a:xfrm>
                <a:off x="336672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5"/>
              <p:cNvSpPr/>
              <p:nvPr/>
            </p:nvSpPr>
            <p:spPr>
              <a:xfrm>
                <a:off x="344628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Oval 16"/>
              <p:cNvSpPr/>
              <p:nvPr/>
            </p:nvSpPr>
            <p:spPr>
              <a:xfrm>
                <a:off x="406980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Oval 17"/>
              <p:cNvSpPr/>
              <p:nvPr/>
            </p:nvSpPr>
            <p:spPr>
              <a:xfrm>
                <a:off x="413748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9" name="Rectangle 18"/>
            <p:cNvSpPr/>
            <p:nvPr/>
          </p:nvSpPr>
          <p:spPr>
            <a:xfrm rot="3418800">
              <a:off x="3982320" y="3605040"/>
              <a:ext cx="823680" cy="894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0" name="Group 19"/>
            <p:cNvGrpSpPr/>
            <p:nvPr/>
          </p:nvGrpSpPr>
          <p:grpSpPr>
            <a:xfrm>
              <a:off x="4912200" y="3816720"/>
              <a:ext cx="1086840" cy="117000"/>
              <a:chOff x="4912200" y="3816720"/>
              <a:chExt cx="1086840" cy="117000"/>
            </a:xfrm>
          </p:grpSpPr>
          <p:sp>
            <p:nvSpPr>
              <p:cNvPr id="1081" name="Oval 20"/>
              <p:cNvSpPr/>
              <p:nvPr/>
            </p:nvSpPr>
            <p:spPr>
              <a:xfrm>
                <a:off x="4912200" y="3816720"/>
                <a:ext cx="18324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Rectangle 21"/>
              <p:cNvSpPr/>
              <p:nvPr/>
            </p:nvSpPr>
            <p:spPr>
              <a:xfrm>
                <a:off x="5016240" y="3817440"/>
                <a:ext cx="9014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Oval 22"/>
              <p:cNvSpPr/>
              <p:nvPr/>
            </p:nvSpPr>
            <p:spPr>
              <a:xfrm>
                <a:off x="5834160" y="3817440"/>
                <a:ext cx="16488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Oval 23"/>
              <p:cNvSpPr/>
              <p:nvPr/>
            </p:nvSpPr>
            <p:spPr>
              <a:xfrm>
                <a:off x="5922720" y="385560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24"/>
            <p:cNvSpPr/>
            <p:nvPr/>
          </p:nvSpPr>
          <p:spPr>
            <a:xfrm rot="3418800">
              <a:off x="5515920" y="360504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 Box 25"/>
            <p:cNvSpPr/>
            <p:nvPr/>
          </p:nvSpPr>
          <p:spPr>
            <a:xfrm>
              <a:off x="10026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26"/>
            <p:cNvSpPr/>
            <p:nvPr/>
          </p:nvSpPr>
          <p:spPr>
            <a:xfrm>
              <a:off x="254052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통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27"/>
            <p:cNvSpPr/>
            <p:nvPr/>
          </p:nvSpPr>
          <p:spPr>
            <a:xfrm>
              <a:off x="40158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동기부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 Box 28"/>
            <p:cNvSpPr/>
            <p:nvPr/>
          </p:nvSpPr>
          <p:spPr>
            <a:xfrm>
              <a:off x="5521320" y="3781080"/>
              <a:ext cx="820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다른 사람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능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0" name="Group 19"/>
            <p:cNvGrpSpPr/>
            <p:nvPr/>
          </p:nvGrpSpPr>
          <p:grpSpPr>
            <a:xfrm>
              <a:off x="6430320" y="3811680"/>
              <a:ext cx="1085400" cy="117000"/>
              <a:chOff x="6430320" y="3811680"/>
              <a:chExt cx="1085400" cy="117000"/>
            </a:xfrm>
          </p:grpSpPr>
          <p:sp>
            <p:nvSpPr>
              <p:cNvPr id="1091" name="Oval 20"/>
              <p:cNvSpPr/>
              <p:nvPr/>
            </p:nvSpPr>
            <p:spPr>
              <a:xfrm>
                <a:off x="6430320" y="3811680"/>
                <a:ext cx="182880" cy="115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Rectangle 21"/>
              <p:cNvSpPr/>
              <p:nvPr/>
            </p:nvSpPr>
            <p:spPr>
              <a:xfrm>
                <a:off x="6534360" y="3812760"/>
                <a:ext cx="902520" cy="11592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Oval 22"/>
              <p:cNvSpPr/>
              <p:nvPr/>
            </p:nvSpPr>
            <p:spPr>
              <a:xfrm>
                <a:off x="7351200" y="3812760"/>
                <a:ext cx="164520" cy="11304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Oval 23"/>
              <p:cNvSpPr/>
              <p:nvPr/>
            </p:nvSpPr>
            <p:spPr>
              <a:xfrm>
                <a:off x="7439760" y="384984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5" name="Rectangle 24"/>
            <p:cNvSpPr/>
            <p:nvPr/>
          </p:nvSpPr>
          <p:spPr>
            <a:xfrm rot="3418800">
              <a:off x="7040520" y="3600360"/>
              <a:ext cx="824040" cy="893520"/>
            </a:xfrm>
            <a:prstGeom prst="rect">
              <a:avLst/>
            </a:prstGeom>
            <a:solidFill>
              <a:srgbClr val="dfb6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Text Box 28"/>
            <p:cNvSpPr/>
            <p:nvPr/>
          </p:nvSpPr>
          <p:spPr>
            <a:xfrm>
              <a:off x="7101360" y="375264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대인관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관리능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7" name="슬라이드 번호 개체 틀 4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3A0D3-DBE9-4225-B80C-7C9E0DE5B2F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99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00" name="직사각형 51"/>
              <p:cNvSpPr/>
              <p:nvPr/>
            </p:nvSpPr>
            <p:spPr>
              <a:xfrm>
                <a:off x="1216800" y="1386360"/>
                <a:ext cx="137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서지능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EQ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2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03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4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0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7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10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0" name="타원 5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111" name="타원 5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2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3" name="직사각형 56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지능 혹은 감성지능은‘자신과 타인에 대한 정서적 정보를 정확하고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효과적으로 처리할 수 있는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AutoShape 3"/>
          <p:cNvSpPr/>
          <p:nvPr/>
        </p:nvSpPr>
        <p:spPr>
          <a:xfrm>
            <a:off x="77616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 자신이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경험하는 감정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확하게 인식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AutoShape 3"/>
          <p:cNvSpPr/>
          <p:nvPr/>
        </p:nvSpPr>
        <p:spPr>
          <a:xfrm>
            <a:off x="385272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생의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적에 적합하도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렬시키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AutoShape 3"/>
          <p:cNvSpPr/>
          <p:nvPr/>
        </p:nvSpPr>
        <p:spPr>
          <a:xfrm>
            <a:off x="539100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이해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 혹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이입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AutoShape 3"/>
          <p:cNvSpPr/>
          <p:nvPr/>
        </p:nvSpPr>
        <p:spPr>
          <a:xfrm>
            <a:off x="692928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만한 대인관계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형성하는 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14T00:01:39Z</dcterms:modified>
  <cp:revision>356</cp:revision>
  <dc:subject/>
  <dc:title>PowerPoint Template</dc:title>
</cp:coreProperties>
</file>